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3880" y="2946240"/>
            <a:ext cx="7773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a8b92"/>
                </a:solidFill>
                <a:latin typeface="Times New Roman"/>
                <a:ea typeface="Times New Roman"/>
              </a:rPr>
              <a:t>.................................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13880" y="4446720"/>
            <a:ext cx="7773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a8b92"/>
                </a:solidFill>
                <a:latin typeface="Times New Roman"/>
                <a:ea typeface="Times New Roman"/>
              </a:rPr>
              <a:t>..............................................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678800" cy="116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678800" cy="116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678800" cy="1168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87320" y="6429240"/>
            <a:ext cx="7643880" cy="1800"/>
          </a:xfrm>
          <a:prstGeom prst="line">
            <a:avLst/>
          </a:prstGeom>
          <a:ln w="9360">
            <a:solidFill>
              <a:srgbClr val="3a8b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3280" y="6500880"/>
            <a:ext cx="9156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1979640"/>
                <a:tab algn="l" pos="717228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tand: Juli 201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ite </a:t>
            </a:r>
            <a:fld id="{BD850795-494B-4547-ADE3-898D258404D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2960" y="500040"/>
            <a:ext cx="328608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60400" y="3573360"/>
            <a:ext cx="6000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a8b92"/>
                </a:solidFill>
                <a:latin typeface="Arial"/>
                <a:ea typeface="Times New Roman"/>
              </a:rPr>
              <a:t>Herzlich Willkommen in der </a:t>
            </a:r>
            <a:br>
              <a:rPr sz="3600"/>
            </a:br>
            <a:r>
              <a:rPr b="0" lang="en-US" sz="3600" spc="-1" strike="noStrike">
                <a:solidFill>
                  <a:srgbClr val="3a8b92"/>
                </a:solidFill>
                <a:latin typeface="Arial"/>
                <a:ea typeface="Times New Roman"/>
              </a:rPr>
              <a:t>Oldenburger Jugendwerkst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1700280"/>
          <a:ext cx="8208720" cy="42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8208720" cy="42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971640" y="5950080"/>
            <a:ext cx="48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Arbeitsmarktreport der B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sblick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eduzierung der Oldenburger Jugendwerkstatt auf 16 TN Plät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flösung des 2011 bezogenen zweiten Standortes mit 3 Berufsfeldern (Investition 210.000,- €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ntlassung von 7 MitarbeiterInn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stieg der Jugendarbeitslosigkeit im Rechtskreis SGB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37520" y="3573360"/>
            <a:ext cx="7446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a8b92"/>
                </a:solidFill>
                <a:latin typeface="Arial"/>
                <a:ea typeface="Times New Roman"/>
              </a:rPr>
              <a:t>Vielen Dank für Ihre Aufmerksamk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Zielerreichung in der Oldenburger Jugendwerksta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einer soll die Jugendwerkstatt ohne persönliche und berufliche Perspektive verlassen. Dieses Ziel wird für durchschnittlich 75 % der TeilnehmerInnen erreic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5 – 30 % Ausbildung (einschließlich außerbetrieblicher und schulischer Berufsausbildu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5 – 20 % Arbeit, davon etwa 3 – 5 % geringfügige Beschäftig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5 – 30 % weiterführende Qualifizierungsmaßnahmen (Einstiegsqualifizierung, Hauptschulabschluss, BVB, u.a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twa 1/3 der zugewiesenen TeilnehmerInnen brechen die Teilnahme vorzeitig ab oder werden von uns wegen nicht herzustellender Mitwirkungsbereitschaft entlassen. Diese TeilnehmerInnen sind bei der Ermittlung der oben genannten Prozentzahlen nicht berücksichtigt worde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7280" y="1628280"/>
            <a:ext cx="885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swirkungen d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ürzungen der BA Mittel zur beruflichen Integration ab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euordnung der Arbeitsmarkpolitischen Instrum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f die Umsetzung des Jugendwerkstattprogramms im Allgemeinen und die Arbeit der Oldenburger Jugendwerkstatt im Beson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ingliederungstitel“ des Oldenburger Jobcenters (Angaben gerund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lain" startAt="2010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 Millionen 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lain" startAt="2010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2 Millionen 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lain" startAt="2010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0 Millionen €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lain" startAt="2010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8 Millionen €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465480" y="1915560"/>
            <a:ext cx="81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lgen der Mittelkürzungen im EGT für die Oldenburger Jugendwerkst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19280" y="3068640"/>
          <a:ext cx="5958000" cy="1512720"/>
        </p:xfrm>
        <a:graphic>
          <a:graphicData uri="http://schemas.openxmlformats.org/drawingml/2006/table">
            <a:tbl>
              <a:tblPr/>
              <a:tblGrid>
                <a:gridCol w="2089440"/>
                <a:gridCol w="1800000"/>
                <a:gridCol w="206856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N Plät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N Pauscha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95280" y="513540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Exkurs: Arbeitsgelegenheiten mit Mehraufwandsentschädigung (1 € Jobs) für Jugendlich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Nach der Einführung des SGB II haben sich die AGH zum zentralen Förderinstrument in der Jugendberufshilfe entwickelt, aus folgenden Gründ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GHs sind nachrangig zu einer Ausbildung, Arbeit, der Einstiegsqualifizierung nach dem Ausbildungspakt und den Regelangeboten zur beruflichen Integration nach dem SGB I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GHs sind vorrangig für arbeitsuchende Jugendliche mit multiplen Vermittlungshemmnissen einzuricht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GHs sollen als sinnvolles Modul einer ganzheitlichen und individuellen Integrationsstrategie eingesetzt wer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GHs sind möglichst mit ergänzenden Angeboten zu verbin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AGHs sollen Qualifizierungsbestandteile als integrative Bestandteile enthalten. Sie bestehen aus fachpraktischen und theoretischen Anteil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Der Entwicklung sozialer Kompetenzen kommt in AGH besondere Bedeutung z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i besonderen Problemlagen ist eine umfassende sozialpädagogische Betreuung sicher zu stell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alibri"/>
              </a:rPr>
              <a:t>Erwerbsfähige Hilfebedürftige, die das 25. Lebensjahr noch nicht vollendet haben sind unverzüglich in eine Arbeit, Ausbildung oder Arbeitsgelegenheit zu vermittel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Quelle: Bundesagentur für Arbeit, SGB II – Arbeitshilfe Arbeitsgelegenheiten nach § 16d, Stand Juli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Jugendwerkstätten sollen u. 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Jugendliche mit multiplen Vermittlungshemmnissen durch e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sozialpädagogisch begleitete, qualifizierende Beschäftigung in marktnahen Tätigkeit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zial stabilisieren und beruflich orientieren und qualifizie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Geplante Neugestaltung der AGHs im Rahmen der Instrumentenre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ie AGH gehören nicht mehr zum Katalog der möglichen Sofortangebote, die arbeitslosen Hilfebedürftigen unter 25 Jahren zu unterbreiten sind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§ 3 SGB II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erschärfung der Nachrangigkeit gegenüber anderen Integrationsleistungen (Einzelfallprüfu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egrenzung der Zuweisungsdauer in AGH auf 24 Monate innerhalb von 5 Jah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ägern von AGH werden ihre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Durchführungskos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auf Antrag in pauschalierter Form in Höhe von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30,- € je Teilnehmer und Monat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erstattet. Zusätzlich können Kosten für begleitende Betreuung und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besonderen Anleitungsbedarf in Höhe von bis zu 120,- € pro Teilnehmer und Monat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rbracht werden.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3490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lgen der Deckelung der AGH-Trägerpausch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ür die Oldenburger Jugendwerkst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92360" y="3500280"/>
          <a:ext cx="5616360" cy="1846440"/>
        </p:xfrm>
        <a:graphic>
          <a:graphicData uri="http://schemas.openxmlformats.org/drawingml/2006/table">
            <a:tbl>
              <a:tblPr/>
              <a:tblGrid>
                <a:gridCol w="1871280"/>
                <a:gridCol w="1944720"/>
                <a:gridCol w="1800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N Plät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N Pauscha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0" y="44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4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773360"/>
          <a:ext cx="8229600" cy="41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822960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971640" y="5950080"/>
            <a:ext cx="48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Arbeitsmarktreport der B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9:42:29Z</dcterms:created>
  <dc:creator>robert</dc:creator>
  <dc:description/>
  <dc:language>en-US</dc:language>
  <cp:lastModifiedBy>gerd-hunke</cp:lastModifiedBy>
  <dcterms:modified xsi:type="dcterms:W3CDTF">2011-07-06T12:40:01Z</dcterms:modified>
  <cp:revision>56</cp:revision>
  <dc:subject/>
  <dc:title>Folie 1</dc:title>
</cp:coreProperties>
</file>