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22B-270F-4CB9-93B3-262049CA26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468-5C2D-40AC-AD99-1853C99836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BE5-805B-492A-8290-0777EA55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99A-79AB-472D-9B13-44FCA2CF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1DB-45DA-4808-AD48-972EF7BD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F29-7574-4EDB-8288-4B11ADA2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83F-26D4-40F8-960B-E1B3976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8AA-0D4C-450A-A818-197C012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EDE-C440-4DA6-AFCF-9D7C283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C16-925E-448F-9D15-29E60E84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752-D0F8-49EE-A286-7DF4996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22E-93A7-496A-8B6F-7B6AC59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34C-8B41-4B3E-B2DC-824413D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F43-7DF6-4852-B279-9D4CD4C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4A2-04F0-40EC-879F-BF3E747E4193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Witamy w Paryżu</a:t>
            </a:r>
            <a:br>
              <a:rPr sz="4000"/>
            </a:b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 i Mission Locale </a:t>
            </a:r>
            <a:br>
              <a:rPr sz="4000"/>
            </a:br>
            <a:r>
              <a:rPr b="1" lang="fr-FR" sz="4000" spc="-1" strike="noStrike">
                <a:solidFill>
                  <a:srgbClr val="0070c0"/>
                </a:solidFill>
                <a:latin typeface="Calibri"/>
              </a:rPr>
              <a:t>Pari d‘ Aven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427560" y="2587680"/>
            <a:ext cx="221436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27280" y="3429000"/>
            <a:ext cx="3814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642f04"/>
                </a:solidFill>
                <a:latin typeface="Calibri"/>
              </a:rPr>
              <a:t>1 na 5 młodocianych deklaruje  problemy ze znalezieniem noclegu</a:t>
            </a:r>
            <a:r>
              <a:rPr b="1" lang="de-DE" sz="3200" spc="-1" strike="noStrike">
                <a:solidFill>
                  <a:srgbClr val="642f04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ą to: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 jednej trzeciej (przeludnienie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ruktura sytuacji wyjątkow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nalezienie przejściowego miejsca poby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 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domnie, bez dachu nad głową (spanie gdzie popadnie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prawodawstwa DALO (Prawo do mieszkania) w roku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1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trzeba planu dla Paryskiego Departamentu z operacyjną koordynacją w formie połączeń ze wszystkimi strukturami dla znalezienia noclegu i mieszka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2" descr=""/>
          <p:cNvPicPr/>
          <p:nvPr/>
        </p:nvPicPr>
        <p:blipFill>
          <a:blip r:embed="rId1"/>
          <a:stretch/>
        </p:blipFill>
        <p:spPr>
          <a:xfrm>
            <a:off x="824040" y="2060640"/>
            <a:ext cx="7561080" cy="3155760"/>
          </a:xfrm>
          <a:prstGeom prst="rect">
            <a:avLst/>
          </a:prstGeom>
          <a:ln w="0">
            <a:noFill/>
          </a:ln>
        </p:spPr>
      </p:pic>
      <p:sp>
        <p:nvSpPr>
          <p:cNvPr id="73" name="Textfeld 1"/>
          <p:cNvSpPr/>
          <p:nvPr/>
        </p:nvSpPr>
        <p:spPr>
          <a:xfrm>
            <a:off x="1547640" y="5075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awo do mieszkania!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la wszystkich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ś we Francji: Liczne kroki = sens dla walki o noclegi – o mieszkania przejści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Warsztaty – obszary mieszkal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wstające z formalnego kontaktu 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Noclegi awaryjne,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tegracja noclegowa,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ieszkania przejściowe, możliwość korzystania z ochrony/ wsparacia finansoweg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trz pokaz zdję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42f04"/>
                </a:solidFill>
                <a:latin typeface="Calibri"/>
              </a:rPr>
              <a:t>Dlaczego dopiero mieszka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Francji używane jest dopiero pojęcie obszar mieszkalny (jak pokazują doświadczenia z USA lat 90tych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rytka systemu stoniowego, gdyż on nie ogranicza bezdomności, lecz przdłuża j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pieranie możliwości dostępu do odpowiedniej pomo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42f04"/>
                </a:solidFill>
                <a:latin typeface="Calibri"/>
              </a:rPr>
              <a:t>W Europie</a:t>
            </a:r>
            <a:r>
              <a:rPr b="1" lang="fr-FR" sz="3600" spc="-1" strike="noStrike">
                <a:solidFill>
                  <a:srgbClr val="642f0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cepcja w fazie rozwoj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jekty pilotażowe, ukierunkowane na odpowiednie grupy cel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dukcja noclegowni, na rzecz wspierania i pomocy rozwoju budyn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Francji brak „mieszkań pierwszych“, specjalnych dla określonych grup celowych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Podsumow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trzeba, debaty tematycznej o rodzaju pomocy ( wzmocnienei bądż nie) konkretnie w odniesieniu do osoby w potrzeb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ternatywy do redukcji koszt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Świadczenia mieszkaniowe, pomoć w opłacie kosztów mieszkani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omoc w codziennym życi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spieranie pomocy socjal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642f04"/>
                </a:solidFill>
                <a:latin typeface="Calibri"/>
              </a:rPr>
              <a:t>Nowe założenia: </a:t>
            </a:r>
            <a:br>
              <a:rPr sz="3600"/>
            </a:br>
            <a:r>
              <a:rPr b="1" lang="pl-PL" sz="3600" spc="-1" strike="noStrike">
                <a:solidFill>
                  <a:srgbClr val="642f04"/>
                </a:solidFill>
                <a:latin typeface="Calibri"/>
              </a:rPr>
              <a:t>Jakie mieszkania we Francji najpier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ostają rozwiązania, z minimalnym wsparciem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ieczność podtrzymania miejsc mieszkalnych/noclegowych w oczekiwaniu na pierwsze mieszkani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leży budować więcej mieszkać do zarządzania przez gminę , które są możliwe do samodzielnego finanasowania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628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642f04"/>
                </a:solidFill>
                <a:latin typeface="Calibri"/>
              </a:rPr>
              <a:t>Dziękuję za uwagę</a:t>
            </a: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4000" spc="-1" strike="noStrike">
                <a:solidFill>
                  <a:srgbClr val="642f04"/>
                </a:solidFill>
                <a:latin typeface="Calibri"/>
              </a:rPr>
              <a:t>a Państw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ak obchodzicie się z problemem bezdomności problemami mieszkaniowym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2f04"/>
                </a:solidFill>
                <a:latin typeface="Calibri"/>
              </a:rPr>
              <a:t>W ramach projektu Leonardo da Vinci z Mission Locale, Vernon i </a:t>
            </a:r>
            <a:r>
              <a:rPr b="1" lang="fr-FR" sz="3200" spc="-1" strike="noStrike">
                <a:solidFill>
                  <a:srgbClr val="642f04"/>
                </a:solidFill>
                <a:latin typeface="Calibri"/>
              </a:rPr>
              <a:t>Mission Locale Pari d‘ A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elem naszego przedsięwzięcia jest dyskusja na temat problematyki europejski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bór padł na problemy mieszk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tanowienia konferencji europejskiej oferują nam podstawy do refleksji i wymiany doświadcze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Konferencja Europejs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1557360"/>
            <a:ext cx="83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e doświadczenia w obszarze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trzeba przeciwdziałania bezdomności w Europ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nieje dysonans na temat przyczyn, a czasami konsensus na ten temat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można działać? Obszerna wymiana wiadomośc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akie krok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984807"/>
                </a:solidFill>
                <a:latin typeface="Calibri"/>
              </a:rPr>
              <a:t>Sześć centralnych pytań:</a:t>
            </a:r>
            <a:r>
              <a:rPr b="0" lang="pl-PL" sz="3200" spc="-1" strike="noStrike">
                <a:solidFill>
                  <a:srgbClr val="984807"/>
                </a:solidFill>
                <a:latin typeface="Calibri"/>
              </a:rPr>
              <a:t> Patrz papier ETH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oznacza brak możliwości mieszkaniowych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Zakończenie biedy mieszkaniowej: czy jest to realny cel?“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“Zaangażowanie polityczne w obszarze mieszkan socjalnych, czy to rzeczywiste metody prewencji biedy mieszkaniowej?”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° ) «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“Jak upewniać się, że udział osób poszkodowanych brakiem własnego kąta w projektach będzie odziaływać zapobiegawczo?“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“W jakim wymiarze mają ludzie, którzy są bezdomni, dostęp do miejsc doradczych, służb socjalnych, niezależnie od ich sytuacji prawnych i obywatelskich?”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“Co powinny zawierać treści programowe EU w walce z bezdomnością?”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84807"/>
                </a:solidFill>
                <a:latin typeface="Calibri"/>
              </a:rPr>
              <a:t>Pożyteczne lin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Strategie 202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Podstawy etyczne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Konferencja Europejska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5640" y="1773000"/>
            <a:ext cx="6994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ęśc o systemie(czasowego) noclegu i mieszkań”przejściowych” – mieszkanie w systemach mieszkań socjalnych wraz ze wsparciem socja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Warsztaty “nocleg“, jako wsparcie w procesie adaptacji zawodowej i socjalnej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92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6920"/>
            <a:ext cx="332892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laczego należy ciągle wzmacniać prace wokół problemu mieszkan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Textfeld 1"/>
          <p:cNvSpPr/>
          <p:nvPr/>
        </p:nvSpPr>
        <p:spPr>
          <a:xfrm>
            <a:off x="4919760" y="6165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nocleg socjal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20T18:59:43Z</dcterms:modified>
  <cp:revision>64</cp:revision>
  <dc:subject/>
  <dc:title>Bienvenue à Paris et à la  Mission locale Pari d’Avenir</dc:title>
</cp:coreProperties>
</file>