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082-F1F8-4CF3-A029-1D6A5826AC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73080" y="77148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8956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quoi avons-nous renforcer notre action autour de la question du logemen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1B2-D1D2-42B9-896D-252D208698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E68-8513-4B6E-AE7F-F70B2D5A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F5A-9E7D-4A4C-A4BE-56CE164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048-CC12-42F0-832A-30F5E001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AA1-A799-469D-8917-A8EA53F7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B11-D4E7-4FED-823D-328B1B57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5F3-8CD5-4B8D-96D2-7C5B579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28A-2FBE-4347-ABA9-5ACFDF49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763-11ED-45F3-9CD5-53F02348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35B-6DB9-4E37-926C-D7819171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657-3ED2-4804-BAF2-77851D7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C48-776C-4E9D-B7C3-0C68DA5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728-BC9C-4887-9F39-411C5E77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F0A-5847-405A-93DB-1C20F021410D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a.eu/press_room/pdf/complet_fr_barroso_-_europ%20e_2020_-_fr_version.pdf" TargetMode="External"/><Relationship Id="rId2" Type="http://schemas.openxmlformats.org/officeDocument/2006/relationships/hyperlink" Target="http://www.feantsa.org/files/freshstart/toolkits/ethos/leaflet/fr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5294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alibri"/>
              </a:rPr>
              <a:t>Witamy w Paryżu</a:t>
            </a:r>
            <a:br>
              <a:rPr sz="4000"/>
            </a:br>
            <a:r>
              <a:rPr b="1" lang="fr-FR" sz="4000" spc="-1" strike="noStrike">
                <a:solidFill>
                  <a:srgbClr val="0070c0"/>
                </a:solidFill>
                <a:latin typeface="Calibri"/>
              </a:rPr>
              <a:t> i Mission Locale </a:t>
            </a:r>
            <a:br>
              <a:rPr sz="4000"/>
            </a:br>
            <a:r>
              <a:rPr b="1" lang="fr-FR" sz="4000" spc="-1" strike="noStrike">
                <a:solidFill>
                  <a:srgbClr val="0070c0"/>
                </a:solidFill>
                <a:latin typeface="Calibri"/>
              </a:rPr>
              <a:t>Pari d‘ Aven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3" descr=""/>
          <p:cNvPicPr/>
          <p:nvPr/>
        </p:nvPicPr>
        <p:blipFill>
          <a:blip r:embed="rId1"/>
          <a:stretch/>
        </p:blipFill>
        <p:spPr>
          <a:xfrm>
            <a:off x="3427560" y="2587680"/>
            <a:ext cx="2214360" cy="5601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4" descr=""/>
          <p:cNvPicPr/>
          <p:nvPr/>
        </p:nvPicPr>
        <p:blipFill>
          <a:blip r:embed="rId2"/>
          <a:stretch/>
        </p:blipFill>
        <p:spPr>
          <a:xfrm>
            <a:off x="2627280" y="3429000"/>
            <a:ext cx="3814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42f04"/>
                </a:solidFill>
                <a:latin typeface="Calibri"/>
              </a:rPr>
              <a:t>1 na 5 młodocianych deklaruje  problemy ze znalezieniem noclegu</a:t>
            </a:r>
            <a:r>
              <a:rPr b="1" lang="de-DE" sz="3200" spc="-1" strike="noStrike">
                <a:solidFill>
                  <a:srgbClr val="642f04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887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ą to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 jednej trzeciej (przeludnienie)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ruktura sytuacji wyjątkow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nalezienie przejściowego miejsca poby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 logement passer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domnie, bez dachu nad głową (spanie gdzie popadnie)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prawodawstwa DALO (Prawo do mieszkania) w roku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1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a planu dla Paryskiego Departamentu z operacyjną koordynacją w formie połączeń ze wszystkimi strukturami dla znalezienia noclegu i mieszka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2" descr=""/>
          <p:cNvPicPr/>
          <p:nvPr/>
        </p:nvPicPr>
        <p:blipFill>
          <a:blip r:embed="rId1"/>
          <a:stretch/>
        </p:blipFill>
        <p:spPr>
          <a:xfrm>
            <a:off x="824040" y="2060640"/>
            <a:ext cx="7561080" cy="3155760"/>
          </a:xfrm>
          <a:prstGeom prst="rect">
            <a:avLst/>
          </a:prstGeom>
          <a:ln w="0">
            <a:noFill/>
          </a:ln>
        </p:spPr>
      </p:pic>
      <p:sp>
        <p:nvSpPr>
          <p:cNvPr id="73" name="Textfeld 1"/>
          <p:cNvSpPr/>
          <p:nvPr/>
        </p:nvSpPr>
        <p:spPr>
          <a:xfrm>
            <a:off x="1547640" y="5075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awo do mieszkania!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la wszystkich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ś we Francji: Liczne kroki = sens dla walki o noclegi – o mieszkania przejści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afik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543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Warsztaty – obszary mieszkal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wstające z formalnego kontaktu 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Noclegi awaryjne,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rz pokaz zdję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tegracja noclegowa,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trz pokaz zdję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ieszkania przejściowe, możliwość korzystania z ochrony/ wsparacia finansow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trz pokaz zdję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42f04"/>
                </a:solidFill>
                <a:latin typeface="Calibri"/>
              </a:rPr>
              <a:t>Dlaczego dopiero mieszkan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Francji używane jest dopiero pojęcie obszar mieszkalny (jak pokazują doświadczenia z USA lat 90tych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ytka systemu stoniowego, gdyż on nie ogranicza bezdomności, lecz przdłuża j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pieranie możliwości dostępu do odpowiedniej pomo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42f04"/>
                </a:solidFill>
                <a:latin typeface="Calibri"/>
              </a:rPr>
              <a:t>W Europie</a:t>
            </a:r>
            <a:r>
              <a:rPr b="1" lang="fr-FR" sz="3600" spc="-1" strike="noStrike">
                <a:solidFill>
                  <a:srgbClr val="642f0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cepcja w fazie rozwoj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jekty pilotażowe, ukierunkowane na odpowiednie grupy cel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dukcja noclegowni, na rzecz wspierania i pomocy rozwoju budyn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Francji brak „mieszkań pierwszych“, specjalnych dla określonych grup celowych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Podsumow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trzeba, debaty tematycznej o rodzaju pomocy ( wzmocnienei bądż nie) konkretnie w odniesieniu do osoby w potrzeb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ternatywy do redukcji koszt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iadczenia mieszkaniowe, pomoć w opłacie kosztów mieszkani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omoc w codziennym życ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spieranie pomocy socjal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642f04"/>
                </a:solidFill>
                <a:latin typeface="Calibri"/>
              </a:rPr>
              <a:t>Nowe założenia: </a:t>
            </a:r>
            <a:br>
              <a:rPr sz="3600"/>
            </a:br>
            <a:r>
              <a:rPr b="1" lang="pl-PL" sz="3600" spc="-1" strike="noStrike">
                <a:solidFill>
                  <a:srgbClr val="642f04"/>
                </a:solidFill>
                <a:latin typeface="Calibri"/>
              </a:rPr>
              <a:t>Jakie mieszkania we Francji najpier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ostają rozwiązania, z minimalnym wsparciem socja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ieczność podtrzymania miejsc mieszkalnych/noclegowych w oczekiwaniu na pierwsze mieszkani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budować więcej mieszkać do zarządzania przez gminę , które są możliwe do samodzielnego finanasowania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628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642f04"/>
                </a:solidFill>
                <a:latin typeface="Calibri"/>
              </a:rPr>
              <a:t>Dziękuję za uwagę</a:t>
            </a: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 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… </a:t>
            </a: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a Państw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ak obchodzicie się z problemem bezdomności problemami mieszkaniowym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afik 1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557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2f04"/>
                </a:solidFill>
                <a:latin typeface="Calibri"/>
              </a:rPr>
              <a:t>W ramach projektu Leonardo da Vinci z Mission Locale, Vernon i </a:t>
            </a:r>
            <a:r>
              <a:rPr b="1" lang="fr-FR" sz="3200" spc="-1" strike="noStrike">
                <a:solidFill>
                  <a:srgbClr val="642f04"/>
                </a:solidFill>
                <a:latin typeface="Calibri"/>
              </a:rPr>
              <a:t>Mission Locale Pari d‘ A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em naszego przedsięwzięcia jest dyskusja na temat problematyki europejsk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ór padł na problemy mieszk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tanowienia konferencji europejskiej oferują nam podstawy do refleksji i wymiany doświadcze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Konferencja Europejs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1557360"/>
            <a:ext cx="83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e doświadczenia w obszarze socja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trzeba przeciwdziałania bezdomności w Europ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nieje dysonans na temat przyczyn, a czasami konsensus na ten temat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można działać? Obszerna wymiana wiadomośc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akie kro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560" y="189000"/>
            <a:ext cx="8713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Sześć centralnych pytań:</a:t>
            </a:r>
            <a:r>
              <a:rPr b="0" lang="pl-PL" sz="3200" spc="-1" strike="noStrike">
                <a:solidFill>
                  <a:srgbClr val="984807"/>
                </a:solidFill>
                <a:latin typeface="Calibri"/>
              </a:rPr>
              <a:t> Patrz papier ETH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oznacza brak możliwości mieszkaniowych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Zakończenie biedy mieszkaniowej: czy jest to realny cel?“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“Zaangażowanie polityczne w obszarze mieszkan socjalnych, czy to rzeczywiste metody prewencji biedy mieszkaniowej?”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“Jak upewniać się, że udział osób poszkodowanych brakiem własnego kąta w projektach będzie odziaływać zapobiegawczo?“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98100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° ) «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“W jakim wymiarze mają ludzie, którzy są bezdomni, dostęp do miejsc doradczych, służb socjalnych, niezależnie od ich sytuacji prawnych i obywatelskich?”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 ) «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“Co powinny zawierać treści programowe EU w walce z bezdomnością?”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84807"/>
                </a:solidFill>
                <a:latin typeface="Calibri"/>
              </a:rPr>
              <a:t>Pożyteczne lin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Strategie 202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.eu/press_room/pdf/complet_fr_barroso_-_europ e_2020_-_fr_version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84807"/>
                </a:solidFill>
                <a:latin typeface="Calibri"/>
              </a:rPr>
              <a:t>Podstawy etyczne</a:t>
            </a: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antsa.org/files/freshstart/toolkits/ethos/leaflet/fr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Konferencja Europejska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5640" y="1773000"/>
            <a:ext cx="6994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c o systemie(czasowego) noclegu i mieszkań”przejściowych” – mieszkanie w systemach mieszkań socjalnych wraz ze wsparciem socja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Warsztaty “nocleg“, jako wsparcie w procesie adaptacji zawodowej i socjalnej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1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4184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392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56920"/>
            <a:ext cx="332892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laczego należy ciągle wzmacniać prace wokół problemu mieszkan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86388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Textfeld 1"/>
          <p:cNvSpPr/>
          <p:nvPr/>
        </p:nvSpPr>
        <p:spPr>
          <a:xfrm>
            <a:off x="4919760" y="6165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nocleg socjal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sula Hellweg</cp:lastModifiedBy>
  <dcterms:modified xsi:type="dcterms:W3CDTF">2011-07-20T18:59:43Z</dcterms:modified>
  <cp:revision>64</cp:revision>
  <dc:subject/>
  <dc:title>Bienvenue à Paris et à la  Mission locale Pari d’Avenir</dc:title>
</cp:coreProperties>
</file>