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5E7-5CAE-4A06-8748-0697009A90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2CC-BBD7-4B79-B166-49226652C9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013-650A-4B7B-96E6-6BD97B5466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A58-4280-4E82-9230-CB1A17A2BC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44A-908A-49D6-87BD-A3252A40C4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910-CA1F-4292-9E5B-6322F9732B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AFB-86E2-4908-A95D-7127674B3D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1E3-54EA-4C64-8AEA-784E48EC04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26F-67A4-4808-A6A2-2015459F7D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D24-D967-4C5E-B18C-0EB5B7423C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Picture 13" descr="Logo ALJTsimplifie72dpi"/>
          <p:cNvPicPr/>
          <p:nvPr/>
        </p:nvPicPr>
        <p:blipFill>
          <a:blip r:embed="rId2"/>
          <a:stretch/>
        </p:blipFill>
        <p:spPr>
          <a:xfrm>
            <a:off x="7956720" y="5799240"/>
            <a:ext cx="817560" cy="105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0" y="6507000"/>
            <a:ext cx="8388360" cy="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58920" y="1557360"/>
            <a:ext cx="6626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LJT est une association loi 1901 (créée en 1956) qui propose des logements temporaires meublés pour les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jeunes de 18 à 32 an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(célibataires ou en couple, sans enfants à charge) en région parisienne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Elle gère aujourd’hui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5 000 logement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répartis sur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44 résidence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(sur les 8 départements d’Ile-de-France), dont les propriétaires sont des sociétés d’HLM.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Elle propose à ce jour 2 types de résidences  :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- des résidences pour jeunes travailleurs (R’Jt) pour les 18/28 an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- des résidences pour jeunes actifs en mobilité (R’Jam) pour les 26/32 an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ssociation emploie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225 salarié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qui couvrent les métiers de la gestion hôtelière et sécurité, de la gestion clientèle et de la mission sociale, afin d’offrir de nombreux services aux résidents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LJT agit en partenariat avec les collectivités, les maîtres d’ouvrage HLM et les collecteurs d’Action Logement afin de répondre aux besoins croissants d’hébergement des jeunes salariés en mobilité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résentation de l'ALJ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Picture 5" descr="logo_rjt"/>
          <p:cNvPicPr/>
          <p:nvPr/>
        </p:nvPicPr>
        <p:blipFill>
          <a:blip r:embed="rId1"/>
          <a:stretch/>
        </p:blipFill>
        <p:spPr>
          <a:xfrm>
            <a:off x="1619280" y="3357720"/>
            <a:ext cx="584280" cy="3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ogo_RJAM_300dpi_version print_petit"/>
          <p:cNvPicPr/>
          <p:nvPr/>
        </p:nvPicPr>
        <p:blipFill>
          <a:blip r:embed="rId2"/>
          <a:stretch/>
        </p:blipFill>
        <p:spPr>
          <a:xfrm>
            <a:off x="1403280" y="3706920"/>
            <a:ext cx="792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Inhaltsplatzhalter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5" descr="ALJT-Cachan-20100215_JON1281"/>
          <p:cNvPicPr/>
          <p:nvPr/>
        </p:nvPicPr>
        <p:blipFill>
          <a:blip r:embed="rId1"/>
          <a:stretch/>
        </p:blipFill>
        <p:spPr>
          <a:xfrm>
            <a:off x="4859280" y="1600200"/>
            <a:ext cx="30052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LJT-Vitry-2011-03-17_JON9762-Studette"/>
          <p:cNvPicPr/>
          <p:nvPr/>
        </p:nvPicPr>
        <p:blipFill>
          <a:blip r:embed="rId2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Inhaltsplatzhalter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059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Inhaltsplatzhalter 2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1847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L’ALJT en quelques mo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" name="Grafik 1" descr=""/>
          <p:cNvPicPr/>
          <p:nvPr/>
        </p:nvPicPr>
        <p:blipFill>
          <a:blip r:embed="rId1"/>
          <a:stretch/>
        </p:blipFill>
        <p:spPr>
          <a:xfrm>
            <a:off x="2700360" y="13064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1557360"/>
            <a:ext cx="302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44 résiden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5 000 loge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52 000 candidat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8 200 ré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Zoom sur les résidences parisien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Grafik 1" descr=""/>
          <p:cNvPicPr/>
          <p:nvPr/>
        </p:nvPicPr>
        <p:blipFill>
          <a:blip r:embed="rId1"/>
          <a:stretch/>
        </p:blipFill>
        <p:spPr>
          <a:xfrm>
            <a:off x="1258920" y="1755720"/>
            <a:ext cx="590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58920" y="155736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8 200 jeune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ont été logés en 2010 (pour 52 000 candidatures déposées)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ublic accueil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71640" y="2130480"/>
            <a:ext cx="216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Une mixité dans les âge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148360" y="2133720"/>
            <a:ext cx="23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Une mobilité intra-régionale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70360" y="4199040"/>
            <a:ext cx="25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Des contrats de travail varié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170000" y="4130640"/>
            <a:ext cx="22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Des ressources limitées: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6" name="Grafik 1" descr=""/>
          <p:cNvPicPr/>
          <p:nvPr/>
        </p:nvPicPr>
        <p:blipFill>
          <a:blip r:embed="rId1"/>
          <a:stretch/>
        </p:blipFill>
        <p:spPr>
          <a:xfrm>
            <a:off x="1008000" y="2481120"/>
            <a:ext cx="1908360" cy="1355760"/>
          </a:xfrm>
          <a:prstGeom prst="rect">
            <a:avLst/>
          </a:prstGeom>
          <a:ln w="0">
            <a:noFill/>
          </a:ln>
        </p:spPr>
      </p:pic>
      <p:pic>
        <p:nvPicPr>
          <p:cNvPr id="67" name="Grafik 2" descr=""/>
          <p:cNvPicPr/>
          <p:nvPr/>
        </p:nvPicPr>
        <p:blipFill>
          <a:blip r:embed="rId2"/>
          <a:stretch/>
        </p:blipFill>
        <p:spPr>
          <a:xfrm>
            <a:off x="5003640" y="2481120"/>
            <a:ext cx="2305080" cy="1241640"/>
          </a:xfrm>
          <a:prstGeom prst="rect">
            <a:avLst/>
          </a:prstGeom>
          <a:ln w="0">
            <a:noFill/>
          </a:ln>
        </p:spPr>
      </p:pic>
      <p:pic>
        <p:nvPicPr>
          <p:cNvPr id="68" name="Grafik 3" descr=""/>
          <p:cNvPicPr/>
          <p:nvPr/>
        </p:nvPicPr>
        <p:blipFill>
          <a:blip r:embed="rId3"/>
          <a:stretch/>
        </p:blipFill>
        <p:spPr>
          <a:xfrm>
            <a:off x="1150920" y="4489560"/>
            <a:ext cx="2089080" cy="1963800"/>
          </a:xfrm>
          <a:prstGeom prst="rect">
            <a:avLst/>
          </a:prstGeom>
          <a:ln w="0">
            <a:noFill/>
          </a:ln>
        </p:spPr>
      </p:pic>
      <p:pic>
        <p:nvPicPr>
          <p:cNvPr id="69" name="Grafik 4" descr=""/>
          <p:cNvPicPr/>
          <p:nvPr/>
        </p:nvPicPr>
        <p:blipFill>
          <a:blip r:embed="rId4"/>
          <a:stretch/>
        </p:blipFill>
        <p:spPr>
          <a:xfrm>
            <a:off x="4716360" y="4489560"/>
            <a:ext cx="3144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258920" y="1763640"/>
            <a:ext cx="6913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Nos résidents sont des jeunes en 1er emploi (CDI, CDD ou intérimaires), des jeunes en alternance, des stagiaires en formation professionnelle qualifiante,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des jeunes en mobilité professionnelle ou dans des parcours d’insertion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Ils sont originaires d’Ile-de-France, de province ou de l’étranger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es jeunes ont pour la plupart des revenus très modestes : 66% des candidats gagnent moins que le SMIC et la moitié des résidents a un revenu inférieur au seuil de pauvreté européen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Nous proposons des logements à partir de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390 € par moi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charges comprises (avant déduction des APL)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ublic accueil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7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Des résidences pour les 18/32 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68" descr=""/>
          <p:cNvPicPr/>
          <p:nvPr/>
        </p:nvPicPr>
        <p:blipFill>
          <a:blip r:embed="rId1"/>
          <a:stretch/>
        </p:blipFill>
        <p:spPr>
          <a:xfrm>
            <a:off x="2340000" y="37004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3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5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1798560" cy="179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7" descr=""/>
          <p:cNvPicPr/>
          <p:nvPr/>
        </p:nvPicPr>
        <p:blipFill>
          <a:blip r:embed="rId4"/>
          <a:stretch/>
        </p:blipFill>
        <p:spPr>
          <a:xfrm>
            <a:off x="4356000" y="1628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0" descr=""/>
          <p:cNvPicPr/>
          <p:nvPr/>
        </p:nvPicPr>
        <p:blipFill>
          <a:blip r:embed="rId5"/>
          <a:stretch/>
        </p:blipFill>
        <p:spPr>
          <a:xfrm>
            <a:off x="637236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1" descr=""/>
          <p:cNvPicPr/>
          <p:nvPr/>
        </p:nvPicPr>
        <p:blipFill>
          <a:blip r:embed="rId6"/>
          <a:stretch/>
        </p:blipFill>
        <p:spPr>
          <a:xfrm>
            <a:off x="4356000" y="3700440"/>
            <a:ext cx="1800360" cy="17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2" descr=""/>
          <p:cNvPicPr/>
          <p:nvPr/>
        </p:nvPicPr>
        <p:blipFill>
          <a:blip r:embed="rId7"/>
          <a:stretch/>
        </p:blipFill>
        <p:spPr>
          <a:xfrm>
            <a:off x="324000" y="3700440"/>
            <a:ext cx="1800000" cy="179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3" descr=""/>
          <p:cNvPicPr/>
          <p:nvPr/>
        </p:nvPicPr>
        <p:blipFill>
          <a:blip r:embed="rId8"/>
          <a:stretch/>
        </p:blipFill>
        <p:spPr>
          <a:xfrm>
            <a:off x="6372360" y="3700440"/>
            <a:ext cx="179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Des résidences pour les 18/32 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Picture 15" descr="ALJT-Cachan-petit"/>
          <p:cNvPicPr/>
          <p:nvPr/>
        </p:nvPicPr>
        <p:blipFill>
          <a:blip r:embed="rId1"/>
          <a:stretch/>
        </p:blipFill>
        <p:spPr>
          <a:xfrm>
            <a:off x="395280" y="3851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LJT-Vitry-petit"/>
          <p:cNvPicPr/>
          <p:nvPr/>
        </p:nvPicPr>
        <p:blipFill>
          <a:blip r:embed="rId2"/>
          <a:stretch/>
        </p:blipFill>
        <p:spPr>
          <a:xfrm>
            <a:off x="6443640" y="176364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LJT-Ourcq-petit"/>
          <p:cNvPicPr/>
          <p:nvPr/>
        </p:nvPicPr>
        <p:blipFill>
          <a:blip r:embed="rId3"/>
          <a:stretch/>
        </p:blipFill>
        <p:spPr>
          <a:xfrm>
            <a:off x="6443640" y="385128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IMG_0541-petit"/>
          <p:cNvPicPr/>
          <p:nvPr/>
        </p:nvPicPr>
        <p:blipFill>
          <a:blip r:embed="rId4"/>
          <a:stretch/>
        </p:blipFill>
        <p:spPr>
          <a:xfrm>
            <a:off x="395280" y="17636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magny-facade"/>
          <p:cNvPicPr/>
          <p:nvPr/>
        </p:nvPicPr>
        <p:blipFill>
          <a:blip r:embed="rId5"/>
          <a:stretch/>
        </p:blipFill>
        <p:spPr>
          <a:xfrm>
            <a:off x="4427640" y="1763640"/>
            <a:ext cx="179712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IMG_diderot-petit"/>
          <p:cNvPicPr/>
          <p:nvPr/>
        </p:nvPicPr>
        <p:blipFill>
          <a:blip r:embed="rId6"/>
          <a:stretch/>
        </p:blipFill>
        <p:spPr>
          <a:xfrm>
            <a:off x="2411280" y="1763640"/>
            <a:ext cx="1798920" cy="179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IMG_0063_BD"/>
          <p:cNvPicPr/>
          <p:nvPr/>
        </p:nvPicPr>
        <p:blipFill>
          <a:blip r:embed="rId7"/>
          <a:srcRect l="6083" t="0" r="18174" b="0"/>
          <a:stretch/>
        </p:blipFill>
        <p:spPr>
          <a:xfrm>
            <a:off x="4427640" y="3860640"/>
            <a:ext cx="1800000" cy="178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ALJT-Paris18-148Poissonniers-20090724_JON0004-Couple-360"/>
          <p:cNvPicPr/>
          <p:nvPr/>
        </p:nvPicPr>
        <p:blipFill>
          <a:blip r:embed="rId8"/>
          <a:srcRect l="0" t="16894" r="0" b="16078"/>
          <a:stretch/>
        </p:blipFill>
        <p:spPr>
          <a:xfrm>
            <a:off x="2427120" y="3860640"/>
            <a:ext cx="1784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Inhaltsplatzhalter 2" descr=""/>
          <p:cNvPicPr/>
          <p:nvPr/>
        </p:nvPicPr>
        <p:blipFill>
          <a:blip r:embed="rId1"/>
          <a:stretch/>
        </p:blipFill>
        <p:spPr>
          <a:xfrm>
            <a:off x="1144440" y="1413000"/>
            <a:ext cx="6927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Inhaltsplatzhalter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08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51:09Z</dcterms:created>
  <dc:creator>SUPPORT INFORMATIQUE</dc:creator>
  <dc:description/>
  <dc:language>en-US</dc:language>
  <cp:lastModifiedBy>Ursula Hellweg</cp:lastModifiedBy>
  <dcterms:modified xsi:type="dcterms:W3CDTF">2011-07-18T18:03:12Z</dcterms:modified>
  <cp:revision>88</cp:revision>
  <dc:subject/>
  <dc:title>Diapositive 1</dc:title>
</cp:coreProperties>
</file>