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jpeg" ContentType="image/jpeg"/>
  <Override PartName="/ppt/media/image32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9D49-DCA5-4DC1-9A86-FFEDC7E69B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72C2-B7CC-497E-BCD7-204F33470F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E91F-925F-4B1F-859D-427C57FA4B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7CCC-9D6D-468D-B881-185FCA8C97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F82C-C428-4F90-AE9D-97B4F49E85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61B9-F5B9-47B1-8283-2A9274FF58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6762-EA91-432A-98FA-1D0A1FBB13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F6FD-36A8-45FB-8748-4D6C7E6B79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FEFA-5E67-4FA6-8DEA-7C316462F2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E0FB-601C-4E8F-8C86-01BFA8D14B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333360"/>
            <a:ext cx="9144000" cy="647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" name="Picture 13" descr="Logo ALJTsimplifie72dpi"/>
          <p:cNvPicPr/>
          <p:nvPr/>
        </p:nvPicPr>
        <p:blipFill>
          <a:blip r:embed="rId2"/>
          <a:stretch/>
        </p:blipFill>
        <p:spPr>
          <a:xfrm>
            <a:off x="7956720" y="5799240"/>
            <a:ext cx="817560" cy="10587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4"/>
          <p:cNvSpPr/>
          <p:nvPr/>
        </p:nvSpPr>
        <p:spPr>
          <a:xfrm>
            <a:off x="0" y="6507000"/>
            <a:ext cx="8388360" cy="9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258920" y="1557360"/>
            <a:ext cx="66261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L’ALJT est une association loi 1901 (créée en 1956) qui propose des logements temporaires meublés pour les </a:t>
            </a:r>
            <a:r>
              <a:rPr b="1" lang="fr-FR" sz="1300" spc="-1" strike="noStrike">
                <a:solidFill>
                  <a:srgbClr val="99cc00"/>
                </a:solidFill>
                <a:latin typeface="Trebuchet MS"/>
                <a:ea typeface="굴림"/>
              </a:rPr>
              <a:t>jeunes de 18 à 32 ans</a:t>
            </a: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 (célibataires ou en couple, sans enfants à charge) en région parisienne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Elle gère aujourd’hui </a:t>
            </a:r>
            <a:r>
              <a:rPr b="1" lang="fr-FR" sz="1300" spc="-1" strike="noStrike">
                <a:solidFill>
                  <a:srgbClr val="99cc00"/>
                </a:solidFill>
                <a:latin typeface="Trebuchet MS"/>
                <a:ea typeface="굴림"/>
              </a:rPr>
              <a:t>5 000 logements</a:t>
            </a: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 répartis sur </a:t>
            </a:r>
            <a:r>
              <a:rPr b="1" lang="fr-FR" sz="1300" spc="-1" strike="noStrike">
                <a:solidFill>
                  <a:srgbClr val="99cc00"/>
                </a:solidFill>
                <a:latin typeface="Trebuchet MS"/>
                <a:ea typeface="굴림"/>
              </a:rPr>
              <a:t>44 résidences</a:t>
            </a: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 (sur les 8 départements d’Ile-de-France), dont les propriétaires sont des sociétés d’HLM. 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Elle propose à ce jour 2 types de résidences  :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- des résidences pour jeunes travailleurs (R’Jt) pour les 18/28 ans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- des résidences pour jeunes actifs en mobilité (R’Jam) pour les 26/32 ans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L’association emploie </a:t>
            </a:r>
            <a:r>
              <a:rPr b="1" lang="fr-FR" sz="1300" spc="-1" strike="noStrike">
                <a:solidFill>
                  <a:srgbClr val="99cc00"/>
                </a:solidFill>
                <a:latin typeface="Trebuchet MS"/>
                <a:ea typeface="굴림"/>
              </a:rPr>
              <a:t>225 salariés</a:t>
            </a: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 qui couvrent les métiers de la gestion hôtelière et sécurité, de la gestion clientèle et de la mission sociale, afin d’offrir de nombreux services aux résidents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L’ALJT agit en partenariat avec les collectivités, les maîtres d’ouvrage HLM et les collecteurs d’Action Logement afin de répondre aux besoins croissants d’hébergement des jeunes salariés en mobilité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95280" y="1042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Présentation de l'ALJ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1" name="Picture 5" descr="logo_rjt"/>
          <p:cNvPicPr/>
          <p:nvPr/>
        </p:nvPicPr>
        <p:blipFill>
          <a:blip r:embed="rId1"/>
          <a:stretch/>
        </p:blipFill>
        <p:spPr>
          <a:xfrm>
            <a:off x="1619280" y="3357720"/>
            <a:ext cx="584280" cy="34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logo_RJAM_300dpi_version print_petit"/>
          <p:cNvPicPr/>
          <p:nvPr/>
        </p:nvPicPr>
        <p:blipFill>
          <a:blip r:embed="rId2"/>
          <a:stretch/>
        </p:blipFill>
        <p:spPr>
          <a:xfrm>
            <a:off x="1403280" y="3706920"/>
            <a:ext cx="7923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8" name="Inhaltsplatzhalter 2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" name="Picture 5" descr="ALJT-Cachan-20100215_JON1281"/>
          <p:cNvPicPr/>
          <p:nvPr/>
        </p:nvPicPr>
        <p:blipFill>
          <a:blip r:embed="rId1"/>
          <a:stretch/>
        </p:blipFill>
        <p:spPr>
          <a:xfrm>
            <a:off x="4859280" y="1600200"/>
            <a:ext cx="300528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LJT-Vitry-2011-03-17_JON9762-Studette"/>
          <p:cNvPicPr/>
          <p:nvPr/>
        </p:nvPicPr>
        <p:blipFill>
          <a:blip r:embed="rId2"/>
          <a:stretch/>
        </p:blipFill>
        <p:spPr>
          <a:xfrm>
            <a:off x="973080" y="1600200"/>
            <a:ext cx="300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3" name="Inhaltsplatzhalter 2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059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5" name="Inhaltsplatzhalter 2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18472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L’ALJT en quelques mo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" name="Grafik 1" descr=""/>
          <p:cNvPicPr/>
          <p:nvPr/>
        </p:nvPicPr>
        <p:blipFill>
          <a:blip r:embed="rId1"/>
          <a:stretch/>
        </p:blipFill>
        <p:spPr>
          <a:xfrm>
            <a:off x="2700360" y="1306440"/>
            <a:ext cx="4535640" cy="4178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95280" y="1557360"/>
            <a:ext cx="3025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44 résidenc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5 000 loge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52 000 candidatur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8 200 résid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95280" y="1042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Zoom sur les résidences parisienn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" name="Grafik 1" descr=""/>
          <p:cNvPicPr/>
          <p:nvPr/>
        </p:nvPicPr>
        <p:blipFill>
          <a:blip r:embed="rId1"/>
          <a:stretch/>
        </p:blipFill>
        <p:spPr>
          <a:xfrm>
            <a:off x="1258920" y="1755720"/>
            <a:ext cx="5905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58920" y="1557360"/>
            <a:ext cx="64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cc00"/>
                </a:solidFill>
                <a:latin typeface="Trebuchet MS"/>
                <a:ea typeface="굴림"/>
              </a:rPr>
              <a:t>8 200 jeunes</a:t>
            </a: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 ont été logés en 2010 (pour 52 000 candidatures déposées)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95280" y="1042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Public accueill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971640" y="2130480"/>
            <a:ext cx="216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Une mixité dans les âges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148360" y="2133720"/>
            <a:ext cx="237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Une mobilité intra-régionale 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4770360" y="4199040"/>
            <a:ext cx="2538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Des contrats de travail variés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170000" y="4130640"/>
            <a:ext cx="224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Des ressources limitées: 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6" name="Grafik 1" descr=""/>
          <p:cNvPicPr/>
          <p:nvPr/>
        </p:nvPicPr>
        <p:blipFill>
          <a:blip r:embed="rId1"/>
          <a:stretch/>
        </p:blipFill>
        <p:spPr>
          <a:xfrm>
            <a:off x="1008000" y="2481120"/>
            <a:ext cx="1908360" cy="1355760"/>
          </a:xfrm>
          <a:prstGeom prst="rect">
            <a:avLst/>
          </a:prstGeom>
          <a:ln w="0">
            <a:noFill/>
          </a:ln>
        </p:spPr>
      </p:pic>
      <p:pic>
        <p:nvPicPr>
          <p:cNvPr id="67" name="Grafik 2" descr=""/>
          <p:cNvPicPr/>
          <p:nvPr/>
        </p:nvPicPr>
        <p:blipFill>
          <a:blip r:embed="rId2"/>
          <a:stretch/>
        </p:blipFill>
        <p:spPr>
          <a:xfrm>
            <a:off x="5003640" y="2481120"/>
            <a:ext cx="2305080" cy="1241640"/>
          </a:xfrm>
          <a:prstGeom prst="rect">
            <a:avLst/>
          </a:prstGeom>
          <a:ln w="0">
            <a:noFill/>
          </a:ln>
        </p:spPr>
      </p:pic>
      <p:pic>
        <p:nvPicPr>
          <p:cNvPr id="68" name="Grafik 3" descr=""/>
          <p:cNvPicPr/>
          <p:nvPr/>
        </p:nvPicPr>
        <p:blipFill>
          <a:blip r:embed="rId3"/>
          <a:stretch/>
        </p:blipFill>
        <p:spPr>
          <a:xfrm>
            <a:off x="1150920" y="4489560"/>
            <a:ext cx="2089080" cy="1963800"/>
          </a:xfrm>
          <a:prstGeom prst="rect">
            <a:avLst/>
          </a:prstGeom>
          <a:ln w="0">
            <a:noFill/>
          </a:ln>
        </p:spPr>
      </p:pic>
      <p:pic>
        <p:nvPicPr>
          <p:cNvPr id="69" name="Grafik 4" descr=""/>
          <p:cNvPicPr/>
          <p:nvPr/>
        </p:nvPicPr>
        <p:blipFill>
          <a:blip r:embed="rId4"/>
          <a:stretch/>
        </p:blipFill>
        <p:spPr>
          <a:xfrm>
            <a:off x="4716360" y="4489560"/>
            <a:ext cx="31449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258920" y="1763640"/>
            <a:ext cx="6913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Nos résidents sont des jeunes en 1er emploi (CDI, CDD ou intérimaires), des jeunes en alternance, des stagiaires en formation professionnelle qualifiante, </a:t>
            </a:r>
            <a:r>
              <a:rPr b="1" lang="fr-FR" sz="1300" spc="-1" strike="noStrike">
                <a:solidFill>
                  <a:srgbClr val="99cc00"/>
                </a:solidFill>
                <a:latin typeface="Trebuchet MS"/>
                <a:ea typeface="굴림"/>
              </a:rPr>
              <a:t>des jeunes en mobilité professionnelle ou dans des parcours d’insertion</a:t>
            </a: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Ils sont originaires d’Ile-de-France, de province ou de l’étranger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Les jeunes ont pour la plupart des revenus très modestes : 66% des candidats gagnent moins que le SMIC et la moitié des résidents a un revenu inférieur au seuil de pauvreté européen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Nous proposons des logements à partir de </a:t>
            </a:r>
            <a:r>
              <a:rPr b="1" lang="fr-FR" sz="1300" spc="-1" strike="noStrike">
                <a:solidFill>
                  <a:srgbClr val="99cc00"/>
                </a:solidFill>
                <a:latin typeface="Trebuchet MS"/>
                <a:ea typeface="굴림"/>
              </a:rPr>
              <a:t>390 € par mois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rebuchet MS"/>
                <a:ea typeface="굴림"/>
              </a:rPr>
              <a:t>charges comprises (avant déduction des APL).</a:t>
            </a:r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95280" y="1042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Public accueill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7"/>
          <p:cNvSpPr/>
          <p:nvPr/>
        </p:nvSpPr>
        <p:spPr>
          <a:xfrm>
            <a:off x="395280" y="1042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Des résidences pour les 18/32 a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Text Box 38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5" name="Picture 68" descr=""/>
          <p:cNvPicPr/>
          <p:nvPr/>
        </p:nvPicPr>
        <p:blipFill>
          <a:blip r:embed="rId1"/>
          <a:stretch/>
        </p:blipFill>
        <p:spPr>
          <a:xfrm>
            <a:off x="2340000" y="37004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3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5" descr=""/>
          <p:cNvPicPr/>
          <p:nvPr/>
        </p:nvPicPr>
        <p:blipFill>
          <a:blip r:embed="rId3"/>
          <a:stretch/>
        </p:blipFill>
        <p:spPr>
          <a:xfrm>
            <a:off x="2340000" y="1628640"/>
            <a:ext cx="1798560" cy="1798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7" descr=""/>
          <p:cNvPicPr/>
          <p:nvPr/>
        </p:nvPicPr>
        <p:blipFill>
          <a:blip r:embed="rId4"/>
          <a:stretch/>
        </p:blipFill>
        <p:spPr>
          <a:xfrm>
            <a:off x="4356000" y="1628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0" descr=""/>
          <p:cNvPicPr/>
          <p:nvPr/>
        </p:nvPicPr>
        <p:blipFill>
          <a:blip r:embed="rId5"/>
          <a:stretch/>
        </p:blipFill>
        <p:spPr>
          <a:xfrm>
            <a:off x="6372360" y="1628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1" descr=""/>
          <p:cNvPicPr/>
          <p:nvPr/>
        </p:nvPicPr>
        <p:blipFill>
          <a:blip r:embed="rId6"/>
          <a:stretch/>
        </p:blipFill>
        <p:spPr>
          <a:xfrm>
            <a:off x="4356000" y="3700440"/>
            <a:ext cx="1800360" cy="179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2" descr=""/>
          <p:cNvPicPr/>
          <p:nvPr/>
        </p:nvPicPr>
        <p:blipFill>
          <a:blip r:embed="rId7"/>
          <a:stretch/>
        </p:blipFill>
        <p:spPr>
          <a:xfrm>
            <a:off x="324000" y="3700440"/>
            <a:ext cx="1800000" cy="179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3" descr=""/>
          <p:cNvPicPr/>
          <p:nvPr/>
        </p:nvPicPr>
        <p:blipFill>
          <a:blip r:embed="rId8"/>
          <a:stretch/>
        </p:blipFill>
        <p:spPr>
          <a:xfrm>
            <a:off x="6372360" y="3700440"/>
            <a:ext cx="17985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95280" y="1042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99cc00"/>
                </a:solidFill>
                <a:latin typeface="Trebuchet MS"/>
              </a:rPr>
              <a:t>Des résidences pour les 18/32 a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5" name="Picture 15" descr="ALJT-Cachan-petit"/>
          <p:cNvPicPr/>
          <p:nvPr/>
        </p:nvPicPr>
        <p:blipFill>
          <a:blip r:embed="rId1"/>
          <a:stretch/>
        </p:blipFill>
        <p:spPr>
          <a:xfrm>
            <a:off x="395280" y="385128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LJT-Vitry-petit"/>
          <p:cNvPicPr/>
          <p:nvPr/>
        </p:nvPicPr>
        <p:blipFill>
          <a:blip r:embed="rId2"/>
          <a:stretch/>
        </p:blipFill>
        <p:spPr>
          <a:xfrm>
            <a:off x="6443640" y="1763640"/>
            <a:ext cx="1805040" cy="1805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ALJT-Ourcq-petit"/>
          <p:cNvPicPr/>
          <p:nvPr/>
        </p:nvPicPr>
        <p:blipFill>
          <a:blip r:embed="rId3"/>
          <a:stretch/>
        </p:blipFill>
        <p:spPr>
          <a:xfrm>
            <a:off x="6443640" y="3851280"/>
            <a:ext cx="1805040" cy="1805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IMG_0541-petit"/>
          <p:cNvPicPr/>
          <p:nvPr/>
        </p:nvPicPr>
        <p:blipFill>
          <a:blip r:embed="rId4"/>
          <a:stretch/>
        </p:blipFill>
        <p:spPr>
          <a:xfrm>
            <a:off x="395280" y="17636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magny-facade"/>
          <p:cNvPicPr/>
          <p:nvPr/>
        </p:nvPicPr>
        <p:blipFill>
          <a:blip r:embed="rId5"/>
          <a:stretch/>
        </p:blipFill>
        <p:spPr>
          <a:xfrm>
            <a:off x="4427640" y="1763640"/>
            <a:ext cx="179712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IMG_diderot-petit"/>
          <p:cNvPicPr/>
          <p:nvPr/>
        </p:nvPicPr>
        <p:blipFill>
          <a:blip r:embed="rId6"/>
          <a:stretch/>
        </p:blipFill>
        <p:spPr>
          <a:xfrm>
            <a:off x="2411280" y="1763640"/>
            <a:ext cx="1798920" cy="1798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3" descr="IMG_0063_BD"/>
          <p:cNvPicPr/>
          <p:nvPr/>
        </p:nvPicPr>
        <p:blipFill>
          <a:blip r:embed="rId7"/>
          <a:srcRect l="6083" t="0" r="18174" b="0"/>
          <a:stretch/>
        </p:blipFill>
        <p:spPr>
          <a:xfrm>
            <a:off x="4427640" y="3860640"/>
            <a:ext cx="1800000" cy="178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4" descr="ALJT-Paris18-148Poissonniers-20090724_JON0004-Couple-360"/>
          <p:cNvPicPr/>
          <p:nvPr/>
        </p:nvPicPr>
        <p:blipFill>
          <a:blip r:embed="rId8"/>
          <a:srcRect l="0" t="16894" r="0" b="16078"/>
          <a:stretch/>
        </p:blipFill>
        <p:spPr>
          <a:xfrm>
            <a:off x="2427120" y="3860640"/>
            <a:ext cx="17845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Inhaltsplatzhalter 2" descr=""/>
          <p:cNvPicPr/>
          <p:nvPr/>
        </p:nvPicPr>
        <p:blipFill>
          <a:blip r:embed="rId1"/>
          <a:stretch/>
        </p:blipFill>
        <p:spPr>
          <a:xfrm>
            <a:off x="1144440" y="1413000"/>
            <a:ext cx="69278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24000" y="379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Une association pour l’habitat des jeunes en Ile-de-Fr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6" name="Inhaltsplatzhalter 2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8086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2:51:09Z</dcterms:created>
  <dc:creator>SUPPORT INFORMATIQUE</dc:creator>
  <dc:description/>
  <dc:language>en-US</dc:language>
  <cp:lastModifiedBy>Ursula Hellweg</cp:lastModifiedBy>
  <dcterms:modified xsi:type="dcterms:W3CDTF">2011-07-18T18:03:12Z</dcterms:modified>
  <cp:revision>88</cp:revision>
  <dc:subject/>
  <dc:title>Diapositive 1</dc:title>
</cp:coreProperties>
</file>