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9E0C-194C-4B94-92CC-A293773BEF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73080" y="77148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8956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quoi avons-nous renforcer notre action autour de la question du logemen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3BF-2F8E-4089-AD04-747D1D44C2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29A-C35B-4097-B4C6-2253DF4D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D1D-737A-477B-83C8-79034A08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413-1166-4211-87EA-C81056A3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21C-8709-4625-8E04-F25C353F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280-540A-4F2A-B078-FCF6D69E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3CF-64AC-454A-AF07-F5853EBE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76D-1D66-42FB-9715-064B4717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E44-6694-4C38-95CE-640070B4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BAE-04F8-49C6-BB38-465452E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747-507A-42F6-85E3-CA050DA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AF1-734D-44AA-846F-DD7B7D8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5DF-7B69-4A0D-96B4-1784A91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EA9-BF49-4372-A235-E248FC4C2FDC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a.eu/press_room/pdf/complet_fr_barroso_-_europ%20e_2020_-_fr_version.pdf" TargetMode="External"/><Relationship Id="rId2" Type="http://schemas.openxmlformats.org/officeDocument/2006/relationships/hyperlink" Target="http://www.feantsa.org/files/freshstart/toolkits/ethos/leaflet/fr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529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04a7b"/>
                </a:solidFill>
                <a:latin typeface="Calibri"/>
              </a:rPr>
              <a:t>Bienvenue à Paris </a:t>
            </a:r>
            <a:br>
              <a:rPr sz="4000"/>
            </a:br>
            <a:r>
              <a:rPr b="1" lang="fr-FR" sz="4000" spc="-1" strike="noStrike">
                <a:solidFill>
                  <a:srgbClr val="604a7b"/>
                </a:solidFill>
                <a:latin typeface="Calibri"/>
              </a:rPr>
              <a:t>et à la </a:t>
            </a:r>
            <a:br>
              <a:rPr sz="4000"/>
            </a:br>
            <a:r>
              <a:rPr b="1" lang="fr-FR" sz="4000" spc="-1" strike="noStrike">
                <a:solidFill>
                  <a:srgbClr val="604a7b"/>
                </a:solidFill>
                <a:latin typeface="Calibri"/>
              </a:rPr>
              <a:t>Mission locale Pari d’Aveni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3" descr=""/>
          <p:cNvPicPr/>
          <p:nvPr/>
        </p:nvPicPr>
        <p:blipFill>
          <a:blip r:embed="rId1"/>
          <a:stretch/>
        </p:blipFill>
        <p:spPr>
          <a:xfrm>
            <a:off x="3465360" y="2587680"/>
            <a:ext cx="2213280" cy="5601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4" descr=""/>
          <p:cNvPicPr/>
          <p:nvPr/>
        </p:nvPicPr>
        <p:blipFill>
          <a:blip r:embed="rId2"/>
          <a:stretch/>
        </p:blipFill>
        <p:spPr>
          <a:xfrm>
            <a:off x="2665440" y="3789360"/>
            <a:ext cx="3813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1 jeune sur 5 se déclare être en difficulté d’hébergemen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87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s so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ez un tiers (surpopulation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e structure d’urge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e structure d’insertion 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 logement passer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s domicile, sans hébergement (squat, dorment à  droite et à gauch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vant la loi DALO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Droit au Logement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n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rafik 2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1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écessité d’un plan départemental parisien avec une coordination opérationnelle  sous la forme d’un travail en réseau avec l’ensemble des acteurs et des structures d’hébergements et de logem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Grafik 2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561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jourd’hui en France: </a:t>
            </a:r>
            <a:br>
              <a:rPr sz="32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ieurs étapes = notion de parcours hébergement  –logement passer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Grafik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543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Atelier lo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siste en une mise en relation ave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hébergement d’urgenc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ir diapo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hébergement d’insertion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ir diapo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logement passerelle, possibilité d’un parrainage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ir diapo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Pourquoi le Logement d’Abord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uellement, en France, le concept général est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ogement d’abord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comme l’expérience du L.D aux USA dans les années 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tique du système en escalier car ne réduit pas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ans-abrism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mais le prolo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mouvoir l’accès au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ogeme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avec un accompagnement adap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En Europ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concept qui gagne du terrai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xpérimentation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ciblées vers des publics spécif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éduction des formules d’hébergement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u logement temporaire, accent mis sur l’accompagnement dans le lo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France,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ogement d’abord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’est pas spécifique à des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ublics cibl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84807"/>
                </a:solidFill>
                <a:latin typeface="Calibri"/>
              </a:rPr>
              <a:t>En réflex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écessité d’engager un débat de fond sur 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ype d’accompagnement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renforcé ou pas) selon le profil de la person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ternative plus économique mais un coû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ides au paiement du lo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ide à la sub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nancement de l’accompagnement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Refondation: </a:t>
            </a:r>
            <a:br>
              <a:rPr sz="3600"/>
            </a:b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Quel logement d’abord en Franc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reste sur des solutions provisoires avec un accompagnement social  à min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écessité de maintenir les places d’hébergement dans l’attente du logement d’ab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faut construire plus de logements accessibles financièrement avec une gouvernance partagée sur les territoi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Merci de votre écoute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… 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Et chez vous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Comment traitez-vous les questions du sans-abrisme ou du mal logemen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Grafik 1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557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Dans le cadre du projet Léonardo avec la Mission Locale de Vernon &amp; ML Pari d’A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objet de notre rencontre est d’échanger sur une problématique européen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choix s’est porté sur question de l ’hébergement –logement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conférence de consensus européenne nous offre une base de réflexion et d’é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Conférence de consensus européen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Expérience dans le champ soc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Nécessité d’agir sur le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sans–abrism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uropé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Il y a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dissensu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ur les causes et parfois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nsensu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sur le suj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ment agir? Expertises variées et contradictoire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Quelles étap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560" y="189000"/>
            <a:ext cx="8713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984807"/>
                </a:solidFill>
                <a:latin typeface="Calibri"/>
              </a:rPr>
              <a:t>6 questions clés: </a:t>
            </a: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Voir fiche ETH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° ) « Que signifie l’absence de chez soi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° ) « mettre un terme à l’absence de chez soi: un objectif réaliste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° ) « Les approches politiques dirigées vers le logement constituent-elles les méthodes les plus efficaces de prévention et de lutte contre l’absence de chez soi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4° ) «  Comment assurer une participation significative des personnes sans chez soi dans l’élaboration de politiques de lutte contre l’absence de chez soi?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98100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° ) « Dans quelle mesure les personnes doivent-elles pouvoir accéder aux services pour les personnes sans chez soi, indépendamment de leur statut légal et de leur citoyenneté?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 ) «  Quels doivent être les éléments d’une stratégie de l’UE en matière de lutte contre l’absence de chez soi?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84807"/>
                </a:solidFill>
                <a:latin typeface="Calibri"/>
              </a:rPr>
              <a:t>Liens uti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La stratégie Europe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.eu/press_room/pdf/complet_fr_barroso_-_europ e_2020_-_fr_version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La typologie ETHO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antsa.org/files/freshstart/toolkits/ethos/leaflet/fr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Conférence de consensus européenne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5640" y="1773000"/>
            <a:ext cx="6994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ssage d’un système d’hébergement et de logement intermédiaire vers le logement durable avec un accompagnement social adap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04a7b"/>
                </a:solidFill>
                <a:latin typeface="Calibri"/>
              </a:rPr>
              <a:t>L’atelier logement, comme support au processus d’insertion socioprofessionne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1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4184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392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57280"/>
            <a:ext cx="33289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Pourquo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vons-nous renforcé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notre action autour de la question du logement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863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sula Hellweg</cp:lastModifiedBy>
  <dcterms:modified xsi:type="dcterms:W3CDTF">2011-07-18T16:45:58Z</dcterms:modified>
  <cp:revision>53</cp:revision>
  <dc:subject/>
  <dc:title>Bienvenue à Paris et à la  Mission locale Pari d’Avenir</dc:title>
</cp:coreProperties>
</file>