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AEA7-227E-4888-A6A3-0F24A9AFF8C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73080" y="77148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89560" cy="24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ourquoi avons-nous renforcer notre action autour de la question du logement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Espace réservé du numéro de diapositive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F30D-6A68-4730-AC1C-E90239CDAD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73B7-2F6A-4262-8922-C5B29083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12B9-9186-47C4-90ED-0B8940E8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3C70-28CC-4DD2-8E05-F28094C3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B86F-374D-4EE8-9FD6-F68B236B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40C8-764A-4789-99F0-5E44985D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3010-34A7-4403-A860-A84C5320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8B5B-E284-4699-AAED-D44C1187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DEC0-C58C-4FAB-B715-853478EF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0DBC-59F2-48D5-BA0F-DB7B066C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6496-D394-4368-9DFC-A7EB69BC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E557-CF46-4744-BFA7-714F128C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15E0-8B1A-4E63-BA33-7CB6CF73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8F29-0845-493B-B9F0-E0864AB2703C}" type="slidenum">
              <a:rPr b="0" lang="fr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uropa.eu/press_room/pdf/complet_fr_barroso_-_europ%20e_2020_-_fr_version.pdf" TargetMode="External"/><Relationship Id="rId2" Type="http://schemas.openxmlformats.org/officeDocument/2006/relationships/hyperlink" Target="http://www.feantsa.org/files/freshstart/toolkits/ethos/leaflet/fr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520" y="356760"/>
            <a:ext cx="752940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604a7b"/>
                </a:solidFill>
                <a:latin typeface="Calibri"/>
              </a:rPr>
              <a:t>Bienvenue à Paris </a:t>
            </a:r>
            <a:br>
              <a:rPr sz="4000"/>
            </a:br>
            <a:r>
              <a:rPr b="1" lang="fr-FR" sz="4000" spc="-1" strike="noStrike">
                <a:solidFill>
                  <a:srgbClr val="604a7b"/>
                </a:solidFill>
                <a:latin typeface="Calibri"/>
              </a:rPr>
              <a:t>et à la </a:t>
            </a:r>
            <a:br>
              <a:rPr sz="4000"/>
            </a:br>
            <a:r>
              <a:rPr b="1" lang="fr-FR" sz="4000" spc="-1" strike="noStrike">
                <a:solidFill>
                  <a:srgbClr val="604a7b"/>
                </a:solidFill>
                <a:latin typeface="Calibri"/>
              </a:rPr>
              <a:t>Mission locale Pari d’Aveni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Grafik 3" descr=""/>
          <p:cNvPicPr/>
          <p:nvPr/>
        </p:nvPicPr>
        <p:blipFill>
          <a:blip r:embed="rId1"/>
          <a:stretch/>
        </p:blipFill>
        <p:spPr>
          <a:xfrm>
            <a:off x="3465360" y="2587680"/>
            <a:ext cx="2213280" cy="560160"/>
          </a:xfrm>
          <a:prstGeom prst="rect">
            <a:avLst/>
          </a:prstGeom>
          <a:ln w="0">
            <a:noFill/>
          </a:ln>
        </p:spPr>
      </p:pic>
      <p:pic>
        <p:nvPicPr>
          <p:cNvPr id="50" name="Grafik 4" descr=""/>
          <p:cNvPicPr/>
          <p:nvPr/>
        </p:nvPicPr>
        <p:blipFill>
          <a:blip r:embed="rId2"/>
          <a:stretch/>
        </p:blipFill>
        <p:spPr>
          <a:xfrm>
            <a:off x="2665440" y="3789360"/>
            <a:ext cx="38131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984807"/>
                </a:solidFill>
                <a:latin typeface="Calibri"/>
              </a:rPr>
              <a:t>1 jeune sur 5 se déclare être en difficulté d’hébergement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88712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ls son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hez un tiers (surpopulation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ans une structure d’urgenc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ans une structure d’insertion 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ans un logement passere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ns domicile, sans hébergement (squat, dorment à  droite et à gauch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vant la loi DALO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Droit au Logement)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n 200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Grafik 2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26112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4960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écessité d’un plan départemental parisien avec une coordination opérationnelle  sous la forme d’un travail en réseau avec l’ensemble des acteurs et des structures d’hébergements et de logemen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Grafik 2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756144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ujourd’hui en France: </a:t>
            </a:r>
            <a:br>
              <a:rPr sz="32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lusieurs étapes = notion de parcours hébergement  –logement passere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Grafik 2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55436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984807"/>
                </a:solidFill>
                <a:latin typeface="Calibri"/>
              </a:rPr>
              <a:t>Atelier lo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onsiste en une mise en relation avec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’hébergement d’urgence,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voir diapor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’hébergement d’insertion,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voir diapor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e logement passerelle, possibilité d’un parrainage,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voir diapor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984807"/>
                </a:solidFill>
                <a:latin typeface="Calibri"/>
              </a:rPr>
              <a:t>Pourquoi le Logement d’Abord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ctuellement, en France, le concept général est l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ogement d’abord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comme l’expérience du L.D aux USA dans les années 9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ritique du système en escalier car ne réduit pas l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sans-abrism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mais le prolo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omouvoir l’accès au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ogement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avec un accompagnement adap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984807"/>
                </a:solidFill>
                <a:latin typeface="Calibri"/>
              </a:rPr>
              <a:t>En Europ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concept qui gagne du terrain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xpérimentation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iblées vers des publics spécifiq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éduction des formules d’hébergement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u logement temporaire, accent mis sur l’accompagnement dans le log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 France, l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ogement d’abord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’est pas spécifique à des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ublics cible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84807"/>
                </a:solidFill>
                <a:latin typeface="Calibri"/>
              </a:rPr>
              <a:t>En réflex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écessité d’engager un débat de fond sur l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ype d’accompagnement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renforcé ou pas) selon le profil de la person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lternative plus économique mais un coû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ides au paiement du lo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ide à la sub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inancement de l’accompagnement soc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fr-FR" sz="3600" spc="-1" strike="noStrike">
                <a:solidFill>
                  <a:srgbClr val="984807"/>
                </a:solidFill>
                <a:latin typeface="Calibri"/>
              </a:rPr>
              <a:t>Refondation: </a:t>
            </a:r>
            <a:br>
              <a:rPr sz="3600"/>
            </a:br>
            <a:r>
              <a:rPr b="1" lang="fr-FR" sz="3600" spc="-1" strike="noStrike">
                <a:solidFill>
                  <a:srgbClr val="984807"/>
                </a:solidFill>
                <a:latin typeface="Calibri"/>
              </a:rPr>
              <a:t>Quel logement d’abord en France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reste sur des solutions provisoires avec un accompagnement social  à mini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écessité de maintenir les places d’hébergement dans l’attente du logement d’abor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l faut construire plus de logements accessibles financièrement avec une gouvernance partagée sur les territoir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39640" y="206028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984807"/>
                </a:solidFill>
                <a:latin typeface="Calibri"/>
              </a:rPr>
              <a:t>Merci de votre écoute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984807"/>
                </a:solidFill>
                <a:latin typeface="Calibri"/>
              </a:rPr>
              <a:t>… </a:t>
            </a:r>
            <a:r>
              <a:rPr b="1" lang="fr-FR" sz="4000" spc="-1" strike="noStrike">
                <a:solidFill>
                  <a:srgbClr val="984807"/>
                </a:solidFill>
                <a:latin typeface="Calibri"/>
              </a:rPr>
              <a:t>Et chez vous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Comment traitez-vous les questions du sans-abrisme ou du mal logemen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Grafik 1" descr=""/>
          <p:cNvPicPr/>
          <p:nvPr/>
        </p:nvPicPr>
        <p:blipFill>
          <a:blip r:embed="rId1"/>
          <a:stretch/>
        </p:blipFill>
        <p:spPr>
          <a:xfrm>
            <a:off x="3203640" y="692280"/>
            <a:ext cx="25574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84807"/>
                </a:solidFill>
                <a:latin typeface="Calibri"/>
              </a:rPr>
              <a:t>Dans le cadre du projet Léonardo avec la Mission Locale de Vernon &amp; ML Pari d’Aven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’objet de notre rencontre est d’échanger sur une problématique européen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choix s’est porté sur question de l ’hébergement –logement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conférence de consensus européenne nous offre une base de réflexion et d’échang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984807"/>
                </a:solidFill>
                <a:latin typeface="Calibri"/>
              </a:rPr>
              <a:t>Conférence de consensus européen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r-FR" sz="3000" spc="-1" strike="noStrike" baseline="30000">
                <a:solidFill>
                  <a:srgbClr val="000000"/>
                </a:solidFill>
                <a:latin typeface="Calibri"/>
              </a:rPr>
              <a:t>ère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Expérience dans le champ soci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Nécessité d’agir sur le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sans–abrisme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uropé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Il y a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dissensus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ur les causes et parfois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consensus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sur le suje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Comment agir? Expertises variées et contradictoires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Quelles étap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50560" y="189000"/>
            <a:ext cx="8713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984807"/>
                </a:solidFill>
                <a:latin typeface="Calibri"/>
              </a:rPr>
              <a:t>6 questions clés: </a:t>
            </a:r>
            <a:r>
              <a:rPr b="0" lang="fr-FR" sz="3200" spc="-1" strike="noStrike">
                <a:solidFill>
                  <a:srgbClr val="984807"/>
                </a:solidFill>
                <a:latin typeface="Calibri"/>
              </a:rPr>
              <a:t>Voir fiche ETH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° ) « Que signifie l’absence de chez soi? 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° ) « mettre un terme à l’absence de chez soi: un objectif réaliste? 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3° ) « Les approches politiques dirigées vers le logement constituent-elles les méthodes les plus efficaces de prévention et de lutte contre l’absence de chez soi? 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4° ) «  Comment assurer une participation significative des personnes sans chez soi dans l’élaboration de politiques de lutte contre l’absence de chez soi? 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68360" y="981000"/>
            <a:ext cx="8229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5° ) « Dans quelle mesure les personnes doivent-elles pouvoir accéder aux services pour les personnes sans chez soi, indépendamment de leur statut légal et de leur citoyenneté?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6 ) «  Quels doivent être les éléments d’une stratégie de l’UE en matière de lutte contre l’absence de chez soi?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84807"/>
                </a:solidFill>
                <a:latin typeface="Calibri"/>
              </a:rPr>
              <a:t>Liens uti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Calibri"/>
              </a:rPr>
              <a:t>La stratégie Europe 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uropa.eu/press_room/pdf/complet_fr_barroso_-_europ e_2020_-_fr_version.pdf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Calibri"/>
              </a:rPr>
              <a:t>La typologie ETHO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eantsa.org/files/freshstart/toolkits/ethos/leaflet/fr.pdf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984807"/>
                </a:solidFill>
                <a:latin typeface="Calibri"/>
              </a:rPr>
              <a:t>Conférence de consensus européenne</a:t>
            </a:r>
            <a:r>
              <a:rPr b="1" lang="fr-FR" sz="4000" spc="-1" strike="noStrike">
                <a:solidFill>
                  <a:srgbClr val="984807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115640" y="1773000"/>
            <a:ext cx="69944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ssage d’un système d’hébergement et de logement intermédiaire vers le logement durable avec un accompagnement social adap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04a7b"/>
                </a:solidFill>
                <a:latin typeface="Calibri"/>
              </a:rPr>
              <a:t>L’atelier logement, comme support au processus d’insertion socioprofessionnel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Grafik 1" descr=""/>
          <p:cNvPicPr/>
          <p:nvPr/>
        </p:nvPicPr>
        <p:blipFill>
          <a:blip r:embed="rId1"/>
          <a:stretch/>
        </p:blipFill>
        <p:spPr>
          <a:xfrm>
            <a:off x="3132000" y="404640"/>
            <a:ext cx="2841840" cy="720720"/>
          </a:xfrm>
          <a:prstGeom prst="rect">
            <a:avLst/>
          </a:prstGeom>
          <a:ln w="0">
            <a:noFill/>
          </a:ln>
        </p:spPr>
      </p:pic>
      <p:pic>
        <p:nvPicPr>
          <p:cNvPr id="63" name="Grafik 3" descr=""/>
          <p:cNvPicPr/>
          <p:nvPr/>
        </p:nvPicPr>
        <p:blipFill>
          <a:blip r:embed="rId2"/>
          <a:stretch/>
        </p:blipFill>
        <p:spPr>
          <a:xfrm>
            <a:off x="2124000" y="2708280"/>
            <a:ext cx="439272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000" y="1457280"/>
            <a:ext cx="3328920" cy="41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Pourquo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avons-nous renforcé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notre action autour de la question du logement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Grafik 2" descr=""/>
          <p:cNvPicPr/>
          <p:nvPr/>
        </p:nvPicPr>
        <p:blipFill>
          <a:blip r:embed="rId1"/>
          <a:stretch/>
        </p:blipFill>
        <p:spPr>
          <a:xfrm>
            <a:off x="3924360" y="1197000"/>
            <a:ext cx="38638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rsula Hellweg</cp:lastModifiedBy>
  <dcterms:modified xsi:type="dcterms:W3CDTF">2011-07-18T16:45:58Z</dcterms:modified>
  <cp:revision>53</cp:revision>
  <dc:subject/>
  <dc:title>Bienvenue à Paris et à la  Mission locale Pari d’Avenir</dc:title>
</cp:coreProperties>
</file>