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21F6-ED62-4F2A-8A84-C34703B2D0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73080" y="77148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89560" cy="24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ourquoi avons-nous renforcer notre action autour de la question du logement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9798-60DA-4F77-AEFC-BE57DA6CAE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F47-7893-49C5-96A9-183D4EB3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9886-A64B-4D34-A767-6EE6BD9B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E6EF-2705-4012-AB0D-77606FEF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8F44-645E-45F6-BBD3-D8301644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8164-6985-4731-B09C-1E97AECE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0219-936B-41E4-8266-8752C20B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3484-6F03-443B-A656-577A27DC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0B22-51B7-4616-8CEB-5D18FACF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3E26-8D72-44CE-82EF-EA90AA39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9A13-71DD-46DA-AFE8-7031E2B2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5B6-CEB5-4D9B-8E1D-CE5B5064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6D28-AB83-4695-AA13-997D329C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F8E1-946D-46F2-B7B9-A0D64E5CB692}" type="slidenum">
              <a:rPr b="0" lang="fr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uropa.eu/press_room/pdf/complet_fr_barroso_-_europ%20e_2020_-_fr_version.pdf" TargetMode="External"/><Relationship Id="rId2" Type="http://schemas.openxmlformats.org/officeDocument/2006/relationships/hyperlink" Target="http://www.feantsa.org/files/freshstart/toolkits/ethos/leaflet/fr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356760"/>
            <a:ext cx="75294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Calibri"/>
              </a:rPr>
              <a:t>Willkommen in Paris </a:t>
            </a:r>
            <a:br>
              <a:rPr sz="4400"/>
            </a:br>
            <a:r>
              <a:rPr b="1" lang="fr-FR" sz="4400" spc="-1" strike="noStrike">
                <a:solidFill>
                  <a:srgbClr val="0070c0"/>
                </a:solidFill>
                <a:latin typeface="Calibri"/>
              </a:rPr>
              <a:t>und in der </a:t>
            </a:r>
            <a:br>
              <a:rPr sz="4400"/>
            </a:br>
            <a:r>
              <a:rPr b="1" lang="fr-FR" sz="4400" spc="-1" strike="noStrike">
                <a:solidFill>
                  <a:srgbClr val="0070c0"/>
                </a:solidFill>
                <a:latin typeface="Calibri"/>
              </a:rPr>
              <a:t>Mission Locale </a:t>
            </a:r>
            <a:br>
              <a:rPr sz="4400"/>
            </a:br>
            <a:r>
              <a:rPr b="1" lang="fr-FR" sz="4400" spc="-1" strike="noStrike">
                <a:solidFill>
                  <a:srgbClr val="0070c0"/>
                </a:solidFill>
                <a:latin typeface="Calibri"/>
              </a:rPr>
              <a:t>Pari d‘ Aveni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Grafik 3" descr=""/>
          <p:cNvPicPr/>
          <p:nvPr/>
        </p:nvPicPr>
        <p:blipFill>
          <a:blip r:embed="rId1"/>
          <a:stretch/>
        </p:blipFill>
        <p:spPr>
          <a:xfrm>
            <a:off x="3394080" y="3290760"/>
            <a:ext cx="2214720" cy="561960"/>
          </a:xfrm>
          <a:prstGeom prst="rect">
            <a:avLst/>
          </a:prstGeom>
          <a:ln w="0">
            <a:noFill/>
          </a:ln>
        </p:spPr>
      </p:pic>
      <p:pic>
        <p:nvPicPr>
          <p:cNvPr id="50" name="Grafik 4" descr=""/>
          <p:cNvPicPr/>
          <p:nvPr/>
        </p:nvPicPr>
        <p:blipFill>
          <a:blip r:embed="rId2"/>
          <a:stretch/>
        </p:blipFill>
        <p:spPr>
          <a:xfrm>
            <a:off x="2627280" y="3933720"/>
            <a:ext cx="38149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b3305"/>
                </a:solidFill>
                <a:latin typeface="Calibri"/>
              </a:rPr>
              <a:t>1 Jugendlicher von 5 erklärt, Schwierigkeiten zu haben eine Unterkunft zu fi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88712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 sind dies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i einem Dritttel (Überbelegu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n eine Struktur des Ausnahmezustand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n einer Struktur der Integration o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ine Übergangsunterkunft zu fi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bdachlos, ohne Unterkunft (Hausbesetzung, schlafen rechts und link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8928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Vor der Gesetzgebung DALO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(Recht auf Wohnung)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im Jahr 200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Grafik 2" descr=""/>
          <p:cNvPicPr/>
          <p:nvPr/>
        </p:nvPicPr>
        <p:blipFill>
          <a:blip r:embed="rId1"/>
          <a:stretch/>
        </p:blipFill>
        <p:spPr>
          <a:xfrm>
            <a:off x="1468440" y="2349360"/>
            <a:ext cx="62625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8560" y="260280"/>
            <a:ext cx="8497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ie Notwendigkeit für einen Plan auf Pariser Departements ebene mit einer operativen Koordination in Form einer Vernetzung mit allen Akteuren und Strukturen für Unterkunft und Wohn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Grafik 2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7559640" cy="3155760"/>
          </a:xfrm>
          <a:prstGeom prst="rect">
            <a:avLst/>
          </a:prstGeom>
          <a:ln w="0">
            <a:noFill/>
          </a:ln>
        </p:spPr>
      </p:pic>
      <p:sp>
        <p:nvSpPr>
          <p:cNvPr id="73" name="Textfeld 1"/>
          <p:cNvSpPr/>
          <p:nvPr/>
        </p:nvSpPr>
        <p:spPr>
          <a:xfrm>
            <a:off x="684360" y="546264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ext auf der Zeichnung:   </a:t>
            </a:r>
            <a:r>
              <a:rPr b="1" lang="de-DE" sz="2400" spc="-1" strike="noStrike">
                <a:solidFill>
                  <a:srgbClr val="0070c0"/>
                </a:solidFill>
                <a:latin typeface="Calibri"/>
              </a:rPr>
              <a:t>Recht auf Wohnraum! - Für all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eute in Frankreich: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ehrere Schritte = Sinn für ein Bemühen um Unterkunft – um eine Übergangswohnu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Grafik 2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5436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6b3305"/>
                </a:solidFill>
                <a:latin typeface="Calibri"/>
              </a:rPr>
              <a:t>Wohnraum - Worksho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Bestehend aus einer formalen Beziehung mi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Notunterkünfte,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iehe Diash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Integration Unterkunft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iehe Diash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Übergangswohnraum, Möglichkeit der Schirmherrschaft / finanziellen Förderung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ehe Diash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b3305"/>
                </a:solidFill>
                <a:latin typeface="Calibri"/>
              </a:rPr>
              <a:t>Warum erst Wohnunge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 Frankreich ist derzeit der allgemeine Begriff des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Wohnraumes zuerst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(wie die Erfahrung der LD in den USA in den 90er Jahren zeigte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ritik des System in Stufen, denn es verringert nicht die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Obdachlosigkeit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, sondern verlängert s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en Zugang zu Wohnungen mit angemessener Unterstützung förde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984807"/>
                </a:solidFill>
                <a:latin typeface="Calibri"/>
              </a:rPr>
              <a:t>In Europ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in Konzept, das auf dem Vormarsch is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Pilotprojekte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, die auf bestimmte Zielgruppen abgestimmt si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Reduzierung der Unterkünfte oder Notunterkünfte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, auf die Unterstützung des Gebäude konzentri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 Frankreich gibt es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keine „Erstwohnungen“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, spezifisch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für bestimmte Zielgruppen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84807"/>
                </a:solidFill>
                <a:latin typeface="Calibri"/>
              </a:rPr>
              <a:t>Reflex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otwendig, eine inhaltliche Debatte über die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Art der Begleitung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(verstärken oder nicht) festgemacht an den Bedarf der Person engagi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Alternativen zur Reduzierung der Kost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ohngeld, Beihilfe zu den Wohnko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ilfen zum Lebensunterha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örderung der sozialen Unterstützung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b3305"/>
                </a:solidFill>
                <a:latin typeface="Calibri"/>
              </a:rPr>
              <a:t>Neugründung: Welche Wohnungen zuerst in Frankreic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360" y="191592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s bleibt bei Interims-Lösungen, mit einem Minimum an sozialer Begleitu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e Notwendigkeit der Aufrechterhaltung von Unterkunftsplätzen in der Erwartung von Erstwohnunge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s muss mehr bezahlbare Wohnungen gebaut werden mit gemeinsamer Verwaltung in den Bezirken.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9640" y="20602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700" spc="-1" strike="noStrike">
                <a:solidFill>
                  <a:srgbClr val="6b3305"/>
                </a:solidFill>
                <a:latin typeface="Calibri"/>
              </a:rPr>
              <a:t>Danke für Ihre Aufmerksamkeit</a:t>
            </a:r>
            <a:r>
              <a:rPr b="1" lang="fr-FR" sz="3700" spc="-1" strike="noStrike">
                <a:solidFill>
                  <a:srgbClr val="984807"/>
                </a:solidFill>
                <a:latin typeface="Calibri"/>
              </a:rPr>
              <a:t>…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984807"/>
                </a:solidFill>
                <a:latin typeface="Calibri"/>
              </a:rPr>
              <a:t>… </a:t>
            </a:r>
            <a:r>
              <a:rPr b="1" lang="fr-FR" sz="3700" spc="-1" strike="noStrike">
                <a:solidFill>
                  <a:srgbClr val="984807"/>
                </a:solidFill>
                <a:latin typeface="Calibri"/>
              </a:rPr>
              <a:t>und Sie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700" spc="-1" strike="noStrike">
                <a:solidFill>
                  <a:srgbClr val="000000"/>
                </a:solidFill>
                <a:latin typeface="Calibri"/>
              </a:rPr>
              <a:t>Wie gehen Sie mit Obdachlosigkeit oder schwierigen Wohnverhältnissen um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Grafik 1" descr=""/>
          <p:cNvPicPr/>
          <p:nvPr/>
        </p:nvPicPr>
        <p:blipFill>
          <a:blip r:embed="rId1"/>
          <a:stretch/>
        </p:blipFill>
        <p:spPr>
          <a:xfrm>
            <a:off x="3203640" y="692280"/>
            <a:ext cx="25574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900" spc="-1" strike="noStrike">
                <a:solidFill>
                  <a:srgbClr val="6b3305"/>
                </a:solidFill>
                <a:latin typeface="Calibri"/>
              </a:rPr>
              <a:t>Im Rahmen des Leonardo-Projekts mit der Mission Locale, Vernon und der Mission Locale Pari d'Aveni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773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as Ziel unserer Veranstaltung ist es, ein europäisches Thema zu diskuti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e Wahl fiel auf das Problem der Unterbringung, Wohnra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e Europäische Konsenskonferenz bietet uns eine Grundlage für Reflexion und Austaus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Calibri"/>
              </a:rPr>
              <a:t>Europäische Konsens-Konferenz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3840" y="1600200"/>
            <a:ext cx="860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rste Erfahrungen im sozialen Berei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er Handlungsbedarf gegen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Obdachlosigkeit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in Europ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s besteht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Dissens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über die Ursachen und manchmal einen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Konsens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über das Th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e kann man handeln? Abwechslungsreiches Know-how und Widersprüchlichkeit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elche Schrit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50560" y="189000"/>
            <a:ext cx="8713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1" lang="de-DE" sz="3000" spc="-1" strike="noStrike">
                <a:solidFill>
                  <a:srgbClr val="984807"/>
                </a:solidFill>
                <a:latin typeface="Calibri"/>
              </a:rPr>
              <a:t>Sechs zentrale Fragen: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600" spc="-1" strike="noStrike">
                <a:solidFill>
                  <a:srgbClr val="984807"/>
                </a:solidFill>
                <a:latin typeface="Calibri"/>
              </a:rPr>
              <a:t>Siehe Papier ETH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1° ) « 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Was bedeutet der Mangel von Wohnmöglichkeiten?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2° ) « 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Ein Ende der Wohnungsnot setzen: als ein realistisches Ziel?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3° ) « 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Politischen Ansätze bezogen auf den sozialen Wohnungsbau, sind sie wirklich die wirksamsten Methoden zur Prävention und Bekämpfung der  Wohnungsnot?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4° ) « 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Wie stellt man sicher, dass eine sinnvolle Beteiligung der betroffenen Menschen ohne Wohnung/Unterkunft an der Entwicklung von Maßnahmen gegen die Wohnungsnot mitwirken?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68360" y="981000"/>
            <a:ext cx="8229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5° ) « 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 welchem Maße haben Menschen, die obdachlos sind, Zugang zu Beratungs- und sozialen Diensten, unabhängig von ihrer Rechtsform und Staatsbürgerschaft?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6 ) « 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as sollten die Inhalte einer EU-Strategie im Kampf gegen die Wohnungsnot sein?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84807"/>
                </a:solidFill>
                <a:latin typeface="Calibri"/>
              </a:rPr>
              <a:t>Nützliche Link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77336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84807"/>
                </a:solidFill>
                <a:latin typeface="Calibri"/>
              </a:rPr>
              <a:t>die Strategie Europa 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uropa.eu/press_room/pdf/complet_fr_barroso_-_europ e_2020_-_fr_version.pdf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84807"/>
                </a:solidFill>
                <a:latin typeface="Calibri"/>
              </a:rPr>
              <a:t>Die ethischen Grundlagen</a:t>
            </a:r>
            <a:r>
              <a:rPr b="0" lang="fr-FR" sz="32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eantsa.org/files/freshstart/toolkits/ethos/leaflet/fr.pdf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984807"/>
                </a:solidFill>
                <a:latin typeface="Calibri"/>
              </a:rPr>
              <a:t>Europäische Konsens-Konferenz</a:t>
            </a:r>
            <a:r>
              <a:rPr b="1" lang="fr-FR" sz="40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989000"/>
            <a:ext cx="7991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Passage von einem System der (kurzfristigen) Unterbringung und „Übergangs“-Wohnung zum nachhaltigen Wohnungsbau mit entsprechender sozialer Unterstützu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Calibri"/>
              </a:rPr>
              <a:t>Der Workshop „Unterkunft“, als Unterstützung für den Prozess der sozialen und beruflichen Eingliederung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Grafik 1" descr=""/>
          <p:cNvPicPr/>
          <p:nvPr/>
        </p:nvPicPr>
        <p:blipFill>
          <a:blip r:embed="rId1"/>
          <a:stretch/>
        </p:blipFill>
        <p:spPr>
          <a:xfrm>
            <a:off x="3132000" y="404640"/>
            <a:ext cx="2841840" cy="720720"/>
          </a:xfrm>
          <a:prstGeom prst="rect">
            <a:avLst/>
          </a:prstGeom>
          <a:ln w="0">
            <a:noFill/>
          </a:ln>
        </p:spPr>
      </p:pic>
      <p:pic>
        <p:nvPicPr>
          <p:cNvPr id="63" name="Grafik 3" descr=""/>
          <p:cNvPicPr/>
          <p:nvPr/>
        </p:nvPicPr>
        <p:blipFill>
          <a:blip r:embed="rId2"/>
          <a:stretch/>
        </p:blipFill>
        <p:spPr>
          <a:xfrm>
            <a:off x="2124000" y="3284640"/>
            <a:ext cx="439272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000" y="1456920"/>
            <a:ext cx="33289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70c0"/>
                </a:solidFill>
                <a:latin typeface="Calibri"/>
              </a:rPr>
              <a:t>Warum müssen wir unsere Arbeit rund um das Thema Wohnen verstärke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Grafik 2" descr=""/>
          <p:cNvPicPr/>
          <p:nvPr/>
        </p:nvPicPr>
        <p:blipFill>
          <a:blip r:embed="rId1"/>
          <a:stretch/>
        </p:blipFill>
        <p:spPr>
          <a:xfrm>
            <a:off x="3924360" y="1197000"/>
            <a:ext cx="3863880" cy="4680000"/>
          </a:xfrm>
          <a:prstGeom prst="rect">
            <a:avLst/>
          </a:prstGeom>
          <a:ln w="0">
            <a:noFill/>
          </a:ln>
        </p:spPr>
      </p:pic>
      <p:sp>
        <p:nvSpPr>
          <p:cNvPr id="66" name="Textfeld 1"/>
          <p:cNvSpPr/>
          <p:nvPr/>
        </p:nvSpPr>
        <p:spPr>
          <a:xfrm>
            <a:off x="4572000" y="59198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70c0"/>
                </a:solidFill>
                <a:latin typeface="Arial"/>
              </a:rPr>
              <a:t>Text der Zeichn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70c0"/>
                </a:solidFill>
                <a:latin typeface="Arial"/>
              </a:rPr>
              <a:t>Eine soziale Notunterkun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rsula Hellweg</cp:lastModifiedBy>
  <dcterms:modified xsi:type="dcterms:W3CDTF">2011-07-18T22:14:43Z</dcterms:modified>
  <cp:revision>61</cp:revision>
  <dc:subject/>
  <dc:title>Bienvenue à Paris et à la  Mission locale Pari d’Avenir</dc:title>
</cp:coreProperties>
</file>