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268B-52FE-4B14-A607-04D9938538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73080" y="77148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8956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ourquoi avons-nous renforcer notre action autour de la question du logement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7A58-A988-495F-BDA9-7849C13B01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E18-C365-4A28-85A0-61F6A212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B7B-034B-4AF3-A002-D86F8923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A48-0DB9-4840-8421-4F401A42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226-6110-4423-A8D8-B752F920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314-C1EE-4560-AF1C-A218F6D2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8C0-8AE6-4E60-90C4-E3BEF84C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930-9B77-4755-A04C-761F8E23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BE5-0745-41E0-B45E-49545CFA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9FC-42A7-424B-82F1-53AF16BC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AF2-642A-4264-8CDC-89BB42AC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6B9-F14E-4BA9-BED3-7EB59291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E25-7016-4569-BDBD-DA4A7F87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F87B-990F-4400-A1A5-94F9E39A350B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uropa.eu/press_room/pdf/complet_fr_barroso_-_europ%20e_2020_-_fr_version.pdf" TargetMode="External"/><Relationship Id="rId2" Type="http://schemas.openxmlformats.org/officeDocument/2006/relationships/hyperlink" Target="http://www.feantsa.org/files/freshstart/toolkits/ethos/leaflet/fr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529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Willkommen in Paris </a:t>
            </a:r>
            <a:br>
              <a:rPr sz="4400"/>
            </a:b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und in der </a:t>
            </a:r>
            <a:br>
              <a:rPr sz="4400"/>
            </a:b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Mission Locale </a:t>
            </a:r>
            <a:br>
              <a:rPr sz="4400"/>
            </a:b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Pari d‘ Aven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3" descr=""/>
          <p:cNvPicPr/>
          <p:nvPr/>
        </p:nvPicPr>
        <p:blipFill>
          <a:blip r:embed="rId1"/>
          <a:stretch/>
        </p:blipFill>
        <p:spPr>
          <a:xfrm>
            <a:off x="3394080" y="3290760"/>
            <a:ext cx="2214720" cy="561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4" descr=""/>
          <p:cNvPicPr/>
          <p:nvPr/>
        </p:nvPicPr>
        <p:blipFill>
          <a:blip r:embed="rId2"/>
          <a:stretch/>
        </p:blipFill>
        <p:spPr>
          <a:xfrm>
            <a:off x="2627280" y="3933720"/>
            <a:ext cx="38149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b3305"/>
                </a:solidFill>
                <a:latin typeface="Calibri"/>
              </a:rPr>
              <a:t>1 Jugendlicher von 5 erklärt, Schwierigkeiten zu haben eine Unterkunft zu fi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88712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 sind dies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i einem Dritttel (Überbelegu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 eine Struktur des Ausnahmezustand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 einer Struktur der Integration o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ine Übergangsunterkunft zu fi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bdachlos, ohne Unterkunft (Hausbesetzung, schlafen rechts und link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8928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 der Gesetzgebung DALO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(Recht auf Wohnung)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im Jahr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Grafik 2" descr=""/>
          <p:cNvPicPr/>
          <p:nvPr/>
        </p:nvPicPr>
        <p:blipFill>
          <a:blip r:embed="rId1"/>
          <a:stretch/>
        </p:blipFill>
        <p:spPr>
          <a:xfrm>
            <a:off x="1468440" y="2349360"/>
            <a:ext cx="62625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560" y="260280"/>
            <a:ext cx="8497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ie Notwendigkeit für einen Plan auf Pariser Departements ebene mit einer operativen Koordination in Form einer Vernetzung mit allen Akteuren und Strukturen für Unterkunft und Wohn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Grafik 2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7559640" cy="3155760"/>
          </a:xfrm>
          <a:prstGeom prst="rect">
            <a:avLst/>
          </a:prstGeom>
          <a:ln w="0">
            <a:noFill/>
          </a:ln>
        </p:spPr>
      </p:pic>
      <p:sp>
        <p:nvSpPr>
          <p:cNvPr id="73" name="Textfeld 1"/>
          <p:cNvSpPr/>
          <p:nvPr/>
        </p:nvSpPr>
        <p:spPr>
          <a:xfrm>
            <a:off x="684360" y="5462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ext auf der Zeichnung:   </a:t>
            </a:r>
            <a:r>
              <a:rPr b="1" lang="de-DE" sz="2400" spc="-1" strike="noStrike">
                <a:solidFill>
                  <a:srgbClr val="0070c0"/>
                </a:solidFill>
                <a:latin typeface="Calibri"/>
              </a:rPr>
              <a:t>Recht auf Wohnraum! - Für al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ute in Frankreich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hrere Schritte = Sinn für ein Bemühen um Unterkunft – um eine Übergangswohn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Grafik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543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b3305"/>
                </a:solidFill>
                <a:latin typeface="Calibri"/>
              </a:rPr>
              <a:t>Wohnraum - Worksh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stehend aus einer formalen Beziehung m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Notunterkünfte,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ehe Dia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Integration Unterkunf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ehe Dia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gangswohnraum, Möglichkeit der Schirmherrschaft / finanziellen Förderung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ehe Dias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b3305"/>
                </a:solidFill>
                <a:latin typeface="Calibri"/>
              </a:rPr>
              <a:t>Warum erst Wohnung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 Frankreich ist derzeit der allgemeine Begriff des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Wohnraumes zuers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(wie die Erfahrung der LD in den USA in den 90er Jahren zeigt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ritik des System in Stufen, denn es verringert nicht die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bdachlosigkei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sondern verlängert s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n Zugang zu Wohnungen mit angemessener Unterstützung förde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In Europ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 Konzept, das auf dem Vormarsch is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Pilotprojekt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die auf bestimmte Zielgruppen abgestimmt s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Reduzierung der Unterkünfte oder Notunterkünft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auf die Unterstützung des Gebäude konzentri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 Frankreich gibt es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eine „Erstwohnungen“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, spezifisch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für bestimmte Zielgruppen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Reflex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otwendig, eine inhaltliche Debatte über die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rt der Begleitung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(verstärken oder nicht) festgemacht an den Bedarf der Person engagi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Alternativen zur Reduzierung der Kost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ohngeld, Beihilfe zu den Wohnko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ilfen zum Lebensunterha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örderung der sozialen Unterstützung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b3305"/>
                </a:solidFill>
                <a:latin typeface="Calibri"/>
              </a:rPr>
              <a:t>Neugründung: Welche Wohnungen zuerst in Frankrei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191592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s bleibt bei Interims-Lösungen, mit einem Minimum an sozialer Begleit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Notwendigkeit der Aufrechterhaltung von Unterkunftsplätzen in der Erwartung von Erstwohnunge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s muss mehr bezahlbare Wohnungen gebaut werden mit gemeinsamer Verwaltung in den Bezirken.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20602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700" spc="-1" strike="noStrike">
                <a:solidFill>
                  <a:srgbClr val="6b3305"/>
                </a:solidFill>
                <a:latin typeface="Calibri"/>
              </a:rPr>
              <a:t>Danke für Ihre Aufmerksamkeit</a:t>
            </a:r>
            <a:r>
              <a:rPr b="1" lang="fr-FR" sz="3700" spc="-1" strike="noStrike">
                <a:solidFill>
                  <a:srgbClr val="984807"/>
                </a:solidFill>
                <a:latin typeface="Calibri"/>
              </a:rPr>
              <a:t>…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700" spc="-1" strike="noStrike">
                <a:solidFill>
                  <a:srgbClr val="984807"/>
                </a:solidFill>
                <a:latin typeface="Calibri"/>
              </a:rPr>
              <a:t>… </a:t>
            </a:r>
            <a:r>
              <a:rPr b="1" lang="fr-FR" sz="3700" spc="-1" strike="noStrike">
                <a:solidFill>
                  <a:srgbClr val="984807"/>
                </a:solidFill>
                <a:latin typeface="Calibri"/>
              </a:rPr>
              <a:t>und Sie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700" spc="-1" strike="noStrike">
                <a:solidFill>
                  <a:srgbClr val="000000"/>
                </a:solidFill>
                <a:latin typeface="Calibri"/>
              </a:rPr>
              <a:t>Wie gehen Sie mit Obdachlosigkeit oder schwierigen Wohnverhältnissen um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Grafik 1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557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6b3305"/>
                </a:solidFill>
                <a:latin typeface="Calibri"/>
              </a:rPr>
              <a:t>Im Rahmen des Leonardo-Projekts mit der Mission Locale, Vernon und der Mission Locale Pari d'Aveni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773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as Ziel unserer Veranstaltung ist es, ein europäisches Thema zu diskuti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Wahl fiel auf das Problem der Unterbringung, Wohnra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e Europäische Konsenskonferenz bietet uns eine Grundlage für Reflexion und Austaus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84807"/>
                </a:solidFill>
                <a:latin typeface="Calibri"/>
              </a:rPr>
              <a:t>Europäische Konsens-Konferen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840" y="1600200"/>
            <a:ext cx="86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ste Erfahrungen im sozialen Berei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r Handlungsbedarf gegen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bdachlosigkei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in Euro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s besteht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Dissens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über die Ursachen und manchmal einen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onsens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über das T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e kann man handeln? Abwechslungsreiches Know-how und Widersprüchlichkei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elche Schrit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0560" y="189000"/>
            <a:ext cx="8713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1" lang="de-DE" sz="3000" spc="-1" strike="noStrike">
                <a:solidFill>
                  <a:srgbClr val="984807"/>
                </a:solidFill>
                <a:latin typeface="Calibri"/>
              </a:rPr>
              <a:t>Sechs zentrale Fragen: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600" spc="-1" strike="noStrike">
                <a:solidFill>
                  <a:srgbClr val="984807"/>
                </a:solidFill>
                <a:latin typeface="Calibri"/>
              </a:rPr>
              <a:t>Siehe Papier ETH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1° ) « 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Was bedeutet der Mangel von Wohnmöglichkeiten?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2° ) « 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Ein Ende der Wohnungsnot setzen: als ein realistisches Ziel?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3° ) « 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olitischen Ansätze bezogen auf den sozialen Wohnungsbau, sind sie wirklich die wirksamsten Methoden zur Prävention und Bekämpfung der  Wohnungsnot?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4° ) « </a:t>
            </a: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Wie stellt man sicher, dass eine sinnvolle Beteiligung der betroffenen Menschen ohne Wohnung/Unterkunft an der Entwicklung von Maßnahmen gegen die Wohnungsnot mitwirken?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98100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° ) « 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 welchem Maße haben Menschen, die obdachlos sind, Zugang zu Beratungs- und sozialen Diensten, unabhängig von ihrer Rechtsform und Staatsbürgerschaft?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6 ) « 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s sollten die Inhalte einer EU-Strategie im Kampf gegen die Wohnungsnot sein?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84807"/>
                </a:solidFill>
                <a:latin typeface="Calibri"/>
              </a:rPr>
              <a:t>Nützliche Lin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77336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84807"/>
                </a:solidFill>
                <a:latin typeface="Calibri"/>
              </a:rPr>
              <a:t>die Strategie Europa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uropa.eu/press_room/pdf/complet_fr_barroso_-_europ e_2020_-_fr_version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84807"/>
                </a:solidFill>
                <a:latin typeface="Calibri"/>
              </a:rPr>
              <a:t>Die ethischen Grundlagen</a:t>
            </a:r>
            <a:r>
              <a:rPr b="0" lang="fr-FR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eantsa.org/files/freshstart/toolkits/ethos/leaflet/fr.pd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84807"/>
                </a:solidFill>
                <a:latin typeface="Calibri"/>
              </a:rPr>
              <a:t>Europäische Konsens-Konferenz</a:t>
            </a:r>
            <a:r>
              <a:rPr b="1" lang="fr-FR" sz="40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989000"/>
            <a:ext cx="7991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assage von einem System der (kurzfristigen) Unterbringung und „Übergangs“-Wohnung zum nachhaltigen Wohnungsbau mit entsprechender sozialer Unterstütz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Calibri"/>
              </a:rPr>
              <a:t>Der Workshop „Unterkunft“, als Unterstützung für den Prozess der sozialen und beruflichen Eingliederun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Grafik 1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284184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Grafik 3" descr=""/>
          <p:cNvPicPr/>
          <p:nvPr/>
        </p:nvPicPr>
        <p:blipFill>
          <a:blip r:embed="rId2"/>
          <a:stretch/>
        </p:blipFill>
        <p:spPr>
          <a:xfrm>
            <a:off x="2124000" y="3284640"/>
            <a:ext cx="439272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456920"/>
            <a:ext cx="33289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70c0"/>
                </a:solidFill>
                <a:latin typeface="Calibri"/>
              </a:rPr>
              <a:t>Warum müssen wir unsere Arbeit rund um das Thema Wohnen verstärk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Grafik 2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386388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Textfeld 1"/>
          <p:cNvSpPr/>
          <p:nvPr/>
        </p:nvSpPr>
        <p:spPr>
          <a:xfrm>
            <a:off x="4572000" y="59198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Text der Zeichn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70c0"/>
                </a:solidFill>
                <a:latin typeface="Arial"/>
              </a:rPr>
              <a:t>Eine soziale Notunterkun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rsula Hellweg</cp:lastModifiedBy>
  <dcterms:modified xsi:type="dcterms:W3CDTF">2011-07-18T22:14:43Z</dcterms:modified>
  <cp:revision>61</cp:revision>
  <dc:subject/>
  <dc:title>Bienvenue à Paris et à la  Mission locale Pari d’Avenir</dc:title>
</cp:coreProperties>
</file>